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5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A911-37EB-4F02-88EA-1FEA2EC72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8A23-2DBA-4193-8DC4-41F77308F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5300-D56F-4489-BD10-16AFBC72E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448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580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6D07-33CE-49CE-B4C3-2AF31F340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9F093D-09AE-435A-BA68-02490A7DD30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74E54E-CFF7-4C18-9C6D-3E8D1B27A11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7D00C5-8E7D-4C7C-96F5-2FF7EDEC965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DC1309-457D-47C8-A96D-884FE74DFBA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B8B698-F398-49FC-BAF6-D7CEE62C4CF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5960" y="-115920"/>
            <a:ext cx="784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577F88-E37A-4FC9-AB0A-DC94538B18E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C20395-787C-41F0-8898-6D5ABCC9A8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FC63-CBFB-41EE-AA6F-864B0DD43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9BB29E-F982-4D44-B1E9-1598CA54EFC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4926E7-5EDD-4681-926C-94991105A08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D35202-D361-4263-801C-77384D695F5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6FD7D2-63AE-4CA8-974A-D86FCE43819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52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6448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9580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E88ED0-826D-409D-9E80-1209F34D9D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FDD8-41A3-4239-8240-D8B7495F3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035A-54AB-4BD6-8B95-16155BFF6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394C-9F1A-4893-B141-055C2B575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5960" y="-115920"/>
            <a:ext cx="784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5BB1-043A-427E-BF57-00090697E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D8BA-B374-4960-8E24-62C9386D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7068-48D6-40BC-A7F5-6C739556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CB2F-D0A5-45DA-9B07-FACB6EDC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75960" y="65401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C2D6E-9454-4DDF-A323-E0D63AC5DBC7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048120" y="655308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315200" y="-1676520"/>
            <a:ext cx="2541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72388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EE38A-2316-45A5-9728-7B9240A05AF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971800" y="10666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8bba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568bb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4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570b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70b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F7FB6-AEED-4D8D-A1A5-7F75293D87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 Unicode MS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bmpi.org/" TargetMode="External"/><Relationship Id="rId2" Type="http://schemas.openxmlformats.org/officeDocument/2006/relationships/hyperlink" Target="http://www.omg.org/docs/dtc/06-02-01.pdf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8bba"/>
                </a:solidFill>
                <a:latin typeface="Arial"/>
              </a:rPr>
              <a:t>BPMN</a:t>
            </a:r>
            <a:endParaRPr b="0" lang="en-US" sz="4800" spc="-1" strike="noStrike">
              <a:solidFill>
                <a:srgbClr val="568bba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0" y="28195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 Introductio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445600" y="636912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667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-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3412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601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1143000"/>
            <a:ext cx="47246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Sub-Process can be in an expanded form that shows the process details of the a lower-level set of activ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309564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3FBF-8639-4C96-943E-9B72C97FCFD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829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n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3809880"/>
            <a:ext cx="88394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Sequence Flow is used to show the order that activities will be performed in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Message Flow is used to show the flow of messages between two entities that are prepared to send and receive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ssociation is used to associate information and artifacts with flow ob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705720" cy="263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9027-66D5-4D09-BC44-76CD18803F1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829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te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14800" y="1371600"/>
            <a:ext cx="4800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Gateways are modeling elements that are used to control how Sequence Flows interact as they converge and diverge within a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f the flow does not need to be controlled, then a Gateway is not nee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3344760" cy="303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BCD2-AD93-413E-9805-4745EAE7571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829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imla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4191120"/>
            <a:ext cx="85341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Pool is a “swimlane” and a graphical container for partitioning a set of activities from other Pools, usually in the context of B2B sit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Lane is a sub-partition within a Pool and will extend the entire length of the Pool, either vertically or horizont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600200" y="906480"/>
            <a:ext cx="5105520" cy="290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974D-4B81-45D4-9472-25D7E63292F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829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if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1280" y="1066680"/>
            <a:ext cx="48769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Data Objects are not flow objects (i.e., connected through Sequence Flow), but they do provide information about how documents, data, and other objects are used and updated within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ext Annotations are a mechanism for a modeler to provide additional information for the reader of a BPMN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Groups provide a mechanism to visually organize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84240" y="1582560"/>
            <a:ext cx="1454040" cy="344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8543-1843-4781-8B9B-59EE7FDE7319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al F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8610480" cy="217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B321-2303-4D9D-92E1-15CB2EEB8DF1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6829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2B Mode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610480" cy="3894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28600" y="5562720"/>
            <a:ext cx="8458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Enhancements are being considered for BPMN 1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2101-5A63-4E40-91E1-955AB24E0FAB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6829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eption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1143000"/>
            <a:ext cx="5562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ntermediate Events attached to the boundary of an activity represent triggers that can interrupt the activ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ll work within the activity will be stopped and flow will proceed from the Ev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imer, Exceptions, Messages, etc. can be Trigg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019920" y="1666800"/>
            <a:ext cx="1471320" cy="13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2D9A-A30F-41E9-9929-E5AF56420D99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ensation Handling and Trans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95680" y="1219320"/>
            <a:ext cx="4648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Transaction is an activity that has a double border. Transactions are supported by a transaction protocol (e.g., WS-Transactio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Normal Outgoing Sequence Flow represents the path to follow a successful comple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Cancel Intermediate Event represents the path to follow a cancelled comple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Exception Intermediate Event represents the path to follow a transaction haza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Activities used for compensate (with marker) are outside normal flow and are Associated normal activit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28600" y="1268280"/>
            <a:ext cx="3867120" cy="429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03B5-D055-480D-9EE7-A59DF58A52C3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mplex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6320" y="1535040"/>
            <a:ext cx="8991360" cy="4332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B954-5BAF-49C6-870D-31CE637D767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tion of BPM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usiness Process Modeling Notation provides: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807b"/>
                </a:solidFill>
                <a:latin typeface="Arial"/>
                <a:ea typeface="Times New Roman"/>
              </a:rPr>
              <a:t>The capability of defining and understanding their internal and external business procedures through a Business Process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807b"/>
                </a:solidFill>
                <a:latin typeface="Arial"/>
                <a:ea typeface="Times New Roman"/>
              </a:rPr>
              <a:t>The ability to communicate these procedures in a standard manner.</a:t>
            </a:r>
            <a:r>
              <a:rPr b="0" lang="en-US" sz="2400" spc="-1" strike="noStrike">
                <a:solidFill>
                  <a:srgbClr val="7f807b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7446-AEE0-4BE4-9480-FE53CA64FC76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I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cc"/>
                </a:solidFill>
                <a:uFillTx/>
                <a:latin typeface="Arial"/>
                <a:hlinkClick r:id="rId1"/>
              </a:rPr>
              <a:t>www.bmpi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N specification </a:t>
            </a:r>
            <a:r>
              <a:rPr b="0" lang="en-US" sz="2800" spc="-1" strike="noStrike" u="sng">
                <a:solidFill>
                  <a:srgbClr val="cccccc"/>
                </a:solidFill>
                <a:uFillTx/>
                <a:latin typeface="Arial"/>
                <a:hlinkClick r:id="rId2"/>
              </a:rPr>
              <a:t>http://www.omg.org/docs/dtc/06-02-01.pdf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N stencil for Visio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in ISIS: BPMN 0-9-V2003.v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Enterprise Architect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Process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26B5-BDD9-458D-8764-A3B430F3AE5B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e Set of Diagram 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1981080"/>
            <a:ext cx="42670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Core set of modeling elements enables the easy development of simple Business Process Dia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Looks familiar to most Business Analysts (flowchart diagr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069920" y="1878120"/>
            <a:ext cx="2587680" cy="269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9D53-9772-46BC-BFF4-E0E1EA2970E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Event triggers a process: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process should have at least one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quence flow links: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in the same swim lane (see la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Message flow links: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between teams so swim lan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nchronous activ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DF1F-63D7-4A4C-A513-6C0D450E499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14800" y="1219320"/>
            <a:ext cx="48769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Event is something that “happens” during the course of a business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Events affect the flow of the Process and usually have a trigger or a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Events can start, interrupt, or end the f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3282840" cy="495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D300-D517-4600-930E-C2ABED9453B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5029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Intermediate Events: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an exception or compensation handl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n by placing the Intermediate Event on the boundary of a Task or Sub-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timer exp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095880" y="1905120"/>
          <a:ext cx="1955880" cy="26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1905120"/>
                    <a:ext cx="1955880" cy="26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D56B-E0DA-493A-BE3F-DD46399EE80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ntermediate event types indicate the different ways that a Process may be interrupted or delayed after it has started. </a:t>
            </a:r>
            <a:endParaRPr b="0" lang="en-US" sz="20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Compensation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used for compensation handling--both setting and performing compensation. It call for compensation if the Event is part of a Normal Flow. It reacts to a named compensation call when attached to the boundary of an activit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Rule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only used for exception handling. This type of event is triggered when a Rule becomes true. Link Ev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28600" y="2438280"/>
          <a:ext cx="31896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438280"/>
                    <a:ext cx="3189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228600" y="4253040"/>
          <a:ext cx="31896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253040"/>
                    <a:ext cx="3189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78DC-342C-45BD-9963-2B95508AC01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990720"/>
            <a:ext cx="6781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858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Link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Link is a mechanism for connecting an End Event (Result) of one Process to an Intermediate Event (Trigger) in another Process. Paired Intermediate Events can also be used as “Go To” objects within a Proces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Multiple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means that there are multiple ways of triggering the Event. Only one of them will be required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523880"/>
          <a:ext cx="31896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3189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457200" y="3276720"/>
          <a:ext cx="31896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276720"/>
                    <a:ext cx="3189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9F61-0C2F-4E44-BFD2-388E4B2AD03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667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62720" y="144792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ctivity is work that is performed within a business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ctivity can be atomic or non-atomic (compoun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he types of activities that are a part of a Process Model are: Process, Sub-Process, and Ta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5064120" cy="336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EF6C-3EAD-47BE-ABE8-A85EEDEFBCB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8T18:27:15Z</dcterms:created>
  <dc:creator>jboyer</dc:creator>
  <dc:description/>
  <dc:language>en-US</dc:language>
  <cp:lastModifiedBy>Julio Prez</cp:lastModifiedBy>
  <dcterms:modified xsi:type="dcterms:W3CDTF">2008-12-17T13:17:42Z</dcterms:modified>
  <cp:revision>24</cp:revision>
  <dc:subject/>
  <dc:title>BPMN</dc:title>
</cp:coreProperties>
</file>