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B56D-5CBD-475D-8382-C0301E2FA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15CB-E4F5-40EE-8B93-65CFFE5E1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DADE-E934-45F1-A373-06EB999C2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E8E9-96BF-49CC-B837-F97837D85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F25F8B-3E06-4596-81A8-B3A2D393533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C0C9E6-E6BB-49FD-AA63-8AD8DCB1430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6A03EE-60F6-4660-96AA-7097EDA4CCB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C1F266-31CD-406E-9CB9-B41EC71AFBE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178D4F-A277-4ED2-B7E5-B31F6CB4331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084D56-2A0D-4AB9-A9D5-57753AEE6C0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F09846-0447-46E3-912D-FE899BF2E2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6F63-3BA6-431A-B5A4-D2D8BBBA1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D9A6B1-8D5A-417D-B402-38C2B127ABF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CD23E9-CAD0-407C-A5E2-0F0936C7FF0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9A5779-5DAE-4AD9-B154-9B3D7402CB2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2A9220-29F7-490B-A9E4-B3777C5C99E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E36EE5-C9A1-4610-BEC6-225D8C7BD8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B47A-AF3E-4BE0-8CC0-68267FD62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39E7-3306-4274-9346-F3EFBC44B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E7C0-55EA-402F-8F5B-9FFBA1718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39BB-24FE-4649-B6D6-4E30146AA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F9FD-5440-4E76-8D35-2221E316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7F79-E363-40E2-9E49-A8C48F26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7BE8-57F4-484F-BB30-945A4939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5960" y="65401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BD5F0-D52D-49BB-BAA3-52C670848ACA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048120" y="655308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315200" y="-1676520"/>
            <a:ext cx="2541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72388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C24DD-E7DC-4AC1-A8D2-EA2C684A66E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971800" y="10666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4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570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70b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71C49-E0C0-44F7-9E4B-FD116DCE2C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 Unicode MS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bmpi.org/" TargetMode="External"/><Relationship Id="rId2" Type="http://schemas.openxmlformats.org/officeDocument/2006/relationships/hyperlink" Target="http://www.omg.org/docs/dtc/06-02-01.pdf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BPMN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0" y="28195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 Introduct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445600" y="636912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667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-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601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1143000"/>
            <a:ext cx="47246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Sub-Process can be in an expanded form that shows the process details of the a lower-level set of activ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30956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C6EE-5151-4865-A43F-DCC4CD6B4BB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n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3809880"/>
            <a:ext cx="88394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Sequence Flow is used to show the order that activities will be performed 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Message Flow is used to show the flow of messages between two entities that are prepared to send and receive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ssociation is used to associate information and artifacts with flow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705720" cy="263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C2C9-7D7E-4BD6-8782-A280446E926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te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14800" y="1371600"/>
            <a:ext cx="4800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ateways are modeling elements that are used to control how Sequence Flows interact as they converge and diverge within a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f the flow does not need to be controlled, then a Gateway is not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3344760" cy="303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B98D-74E3-4667-8E30-E97A2D687A0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mla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419112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Pool is a “swimlane” and a graphical container for partitioning a set of activities from other Pools, usually in the context of B2B sit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Lane is a sub-partition within a Pool and will extend the entire length of the Pool, either vertically or horizont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00200" y="906480"/>
            <a:ext cx="5105520" cy="290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D0DC-2A89-4245-8A94-61660794784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if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1066680"/>
            <a:ext cx="48769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Data Objects are not flow objects (i.e., connected through Sequence Flow), but they do provide information about how documents, data, and other objects are used and updated with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ext Annotations are a mechanism for a modeler to provide additional information for the reader of a BPMN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roups provide a mechanism to visually organize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84240" y="1582560"/>
            <a:ext cx="1454040" cy="344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9D3A-D55C-4121-8430-0F34B4DD729E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l F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610480" cy="217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B642-1E9D-45C2-8F39-0E7601E352B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6829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2B Mod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10480" cy="3894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8600" y="556272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Enhancements are being considered for BPMN 1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45AD-2B05-4AEC-B6D7-964699EBD0C1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6829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ption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1143000"/>
            <a:ext cx="5562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s attached to the boundary of an activity represent triggers that can interrupt the activ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ll work within the activity will be stopped and flow will proceed from the Ev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imer, Exceptions, Messages, etc. can be Trigg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019920" y="1666800"/>
            <a:ext cx="1471320" cy="13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97C2-B646-473E-89B5-F12279293EB6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nsation Handling and Trans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1219320"/>
            <a:ext cx="4648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Transaction is an activity that has a double border. Transactions are supported by a transaction protocol (e.g., WS-Transactio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Normal Outgoing Sequence Flow represents the path to follow a successful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Cancel Intermediate Event represents the path to follow a cancelled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Exception Intermediate Event represents the path to follow a transaction haza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Activities used for compensate (with marker) are outside normal flow and are Associated normal activi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28600" y="1268280"/>
            <a:ext cx="3867120" cy="429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3B20-21A9-4FB1-A2F2-49355540D1DD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plex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6320" y="1535040"/>
            <a:ext cx="8991360" cy="433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E6FF-5E85-43D4-A5EE-FB90B25E6A7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 of BPM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usiness Process Modeling Notation provide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capability of defining and understanding their internal and external business procedures through a Business Process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ability to communicate these procedures in a standard manner.</a:t>
            </a:r>
            <a:r>
              <a:rPr b="0" lang="en-US" sz="2400" spc="-1" strike="noStrike">
                <a:solidFill>
                  <a:srgbClr val="7f807b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BBAB-8086-49DF-9E9F-A4D01775D560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I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cc"/>
                </a:solidFill>
                <a:uFillTx/>
                <a:latin typeface="Arial"/>
                <a:hlinkClick r:id="rId1"/>
              </a:rPr>
              <a:t>www.bmpi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pecification </a:t>
            </a:r>
            <a:r>
              <a:rPr b="0" lang="en-US" sz="2800" spc="-1" strike="noStrike" u="sng">
                <a:solidFill>
                  <a:srgbClr val="cccccc"/>
                </a:solidFill>
                <a:uFillTx/>
                <a:latin typeface="Arial"/>
                <a:hlinkClick r:id="rId2"/>
              </a:rPr>
              <a:t>http://www.omg.org/docs/dtc/06-02-01.pdf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tencil for Visio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in ISIS: BPMN 0-9-V2003.v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nterprise Architect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Process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F558-3933-4DEE-80D3-AEBEE425C7F8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e Set of Diagram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1981080"/>
            <a:ext cx="4267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Core set of modeling elements enables the easy development of simple Business Process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Looks familiar to most Business Analysts (flowchart dia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69920" y="1878120"/>
            <a:ext cx="2587680" cy="26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7674-26A0-4C7C-B4C3-D4E6FA7EA06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vent triggers a proces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rocess should have at least one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quenc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in the same swim lane (see l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Messag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between teams so swim lan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nchronous acti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D12D-3CDA-4401-87B9-959D3FCD8F9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14800" y="1219320"/>
            <a:ext cx="48769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Event is something that “happens” during the course of a business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affect the flow of the Process and usually have a trigger or a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can start, interrupt, or end the f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3282840" cy="495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C67C-AAFD-4E29-8D45-21C333BAF93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5029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Intermediate Events: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an exception or compensation hand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n by placing the Intermediate Event on the boundary of a Task or Sub-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timer ex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095880" y="1905120"/>
          <a:ext cx="195588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905120"/>
                    <a:ext cx="195588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8040-8329-416D-98C8-3FF386ACA85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 types indicate the different ways that a Process may be interrupted or delayed after it has started. </a:t>
            </a: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Compensation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for compensation handling--both setting and performing compensation. It call for compensation if the Event is part of a Normal Flow. It reacts to a named compensation call when attached to the boundary of an activit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Ru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only used for exception handling. This type of event is triggered when a Rule becomes true. Link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24382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4382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228600" y="425304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25304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ACD3-0E1B-45C4-9DA3-19A05DFB9C6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990720"/>
            <a:ext cx="6781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8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Link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Link is a mechanism for connecting an End Event (Result) of one Process to an Intermediate Event (Trigger) in another Process. Paired Intermediate Events can also be used as “Go To” objects within a Proces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Multip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means that there are multiple ways of triggering the Event. Only one of them will be require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5238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57200" y="327672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27672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2900-E104-45A4-9E18-3BE29D0E271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67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144792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is work that is performed within a business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can be atomic or non-atomic (compoun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he types of activities that are a part of a Process Model are: Process, Sub-Process, and Ta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5064120" cy="33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18D0-32B8-4B26-BADB-8402B2A003D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8:27:15Z</dcterms:created>
  <dc:creator>jboyer</dc:creator>
  <dc:description/>
  <dc:language>en-US</dc:language>
  <cp:lastModifiedBy>Julio Prez</cp:lastModifiedBy>
  <dcterms:modified xsi:type="dcterms:W3CDTF">2008-12-17T13:17:42Z</dcterms:modified>
  <cp:revision>24</cp:revision>
  <dc:subject/>
  <dc:title>BPMN</dc:title>
</cp:coreProperties>
</file>