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E718-CECE-4F7F-98FC-784F5FE34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B642-E156-4BF4-A93C-C9CF65BBA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2762-459F-4B8A-AA13-28D774795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6F67-9C14-45E3-8B0E-7B7D105B0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57C120-8159-4E4F-A96E-E70BFCC630D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5A8FFD-8A8D-4DAB-B049-33C87D7643B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897DDD-CAE1-457B-B62B-1F4E7F8D9BD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B66273-12E0-4DD2-B540-CF9B7F19E19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511A29-0138-4C5E-A943-3B8759211D0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956C1D-49E4-4A52-8122-A36F63EF7FC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F5F9D6-8F15-4D13-8710-96AD33CC83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E99F-96E9-4246-89E7-740A0EAFB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FA391C-D583-46D5-A0BF-8F1093C7404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51CB29-4CA7-4792-9C7F-355E0A01F09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1FFEE5-35D5-48E8-91B2-62C706BCFF8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6324D5-19F2-4FC0-A664-8F0BAA6A1E6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75E229-3B40-4DFC-B0BE-77B85401A9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3297-4703-4DA4-9459-EE63D4BBB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20B8-6526-421E-93BD-C424014FF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F75F-D885-4CD0-A36A-BBD6F1A77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17CD-120B-476B-B8D0-78A41ED2D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A096-DF83-46E1-814E-70591D49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5FA2-E727-4EB6-B227-8BEBDAB6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55FA-9733-4618-A2AC-B8410109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5960" y="65401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19BC7-02D3-44CD-B99B-B6BA3BD0AB62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048120" y="655308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315200" y="-1676520"/>
            <a:ext cx="2541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72388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359F1-AEAA-45B8-B336-40C4DB4B755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971800" y="10666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4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570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70b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F2841-1F73-4B6C-93E1-31E9710CCA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 Unicode MS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bmpi.org/" TargetMode="External"/><Relationship Id="rId2" Type="http://schemas.openxmlformats.org/officeDocument/2006/relationships/hyperlink" Target="http://www.omg.org/docs/dtc/06-02-01.pdf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BPMN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0" y="28195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 Introduct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445600" y="636912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667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-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601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1143000"/>
            <a:ext cx="47246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Sub-Process can be in an expanded form that shows the process details of the a lower-level set of activ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30956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9817-1562-4B3D-A02B-198E5DAA22A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n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3809880"/>
            <a:ext cx="88394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Sequence Flow is used to show the order that activities will be performed 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Message Flow is used to show the flow of messages between two entities that are prepared to send and receive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ssociation is used to associate information and artifacts with flow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705720" cy="263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CE03-4947-4CD6-9463-B68A4AE0691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te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14800" y="1371600"/>
            <a:ext cx="4800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ateways are modeling elements that are used to control how Sequence Flows interact as they converge and diverge within a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f the flow does not need to be controlled, then a Gateway is not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3344760" cy="303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058E-E5A3-4DAE-942E-E58EA4FD842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mla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419112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Pool is a “swimlane” and a graphical container for partitioning a set of activities from other Pools, usually in the context of B2B sit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Lane is a sub-partition within a Pool and will extend the entire length of the Pool, either vertically or horizont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00200" y="906480"/>
            <a:ext cx="5105520" cy="290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2659-E4D7-4933-92C6-FF1907A54FB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if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1066680"/>
            <a:ext cx="48769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Data Objects are not flow objects (i.e., connected through Sequence Flow), but they do provide information about how documents, data, and other objects are used and updated with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ext Annotations are a mechanism for a modeler to provide additional information for the reader of a BPMN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roups provide a mechanism to visually organize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84240" y="1582560"/>
            <a:ext cx="1454040" cy="344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64BA-CCE2-4C06-A940-2AA0C38A25DE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l F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610480" cy="217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A9D6-9128-446E-A1C7-312492FAD72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6829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2B Mod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10480" cy="3894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8600" y="556272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Enhancements are being considered for BPMN 1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588C-B6FD-43FF-8BF5-DBAEB1EEEBE1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6829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ption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1143000"/>
            <a:ext cx="5562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s attached to the boundary of an activity represent triggers that can interrupt the activ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ll work within the activity will be stopped and flow will proceed from the Ev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imer, Exceptions, Messages, etc. can be Trigg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019920" y="1666800"/>
            <a:ext cx="1471320" cy="13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96A8-D16E-466C-A97F-2945B9584C87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nsation Handling and Trans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1219320"/>
            <a:ext cx="4648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Transaction is an activity that has a double border. Transactions are supported by a transaction protocol (e.g., WS-Transactio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Normal Outgoing Sequence Flow represents the path to follow a successful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Cancel Intermediate Event represents the path to follow a cancelled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Exception Intermediate Event represents the path to follow a transaction haza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Activities used for compensate (with marker) are outside normal flow and are Associated normal activi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28600" y="1268280"/>
            <a:ext cx="3867120" cy="429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3F45-C871-4D27-8D16-4A2AB3781F0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plex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6320" y="1535040"/>
            <a:ext cx="8991360" cy="433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C5AE-F333-48A8-95CF-1C991101F74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 of BPM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usiness Process Modeling Notation provide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capability of defining and understanding their internal and external business procedures through a Business Process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ability to communicate these procedures in a standard manner.</a:t>
            </a:r>
            <a:r>
              <a:rPr b="0" lang="en-US" sz="2400" spc="-1" strike="noStrike">
                <a:solidFill>
                  <a:srgbClr val="7f807b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3100-1D42-4343-8A0B-F2E14E93E21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I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cc"/>
                </a:solidFill>
                <a:uFillTx/>
                <a:latin typeface="Arial"/>
                <a:hlinkClick r:id="rId1"/>
              </a:rPr>
              <a:t>www.bmpi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pecification </a:t>
            </a:r>
            <a:r>
              <a:rPr b="0" lang="en-US" sz="2800" spc="-1" strike="noStrike" u="sng">
                <a:solidFill>
                  <a:srgbClr val="cccccc"/>
                </a:solidFill>
                <a:uFillTx/>
                <a:latin typeface="Arial"/>
                <a:hlinkClick r:id="rId2"/>
              </a:rPr>
              <a:t>http://www.omg.org/docs/dtc/06-02-01.pdf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tencil for Visio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in ISIS: BPMN 0-9-V2003.v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nterprise Architect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Process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E1E0-62A8-489C-8BC4-EF1A88F71F83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e Set of Diagram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1981080"/>
            <a:ext cx="4267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Core set of modeling elements enables the easy development of simple Business Process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Looks familiar to most Business Analysts (flowchart dia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69920" y="1878120"/>
            <a:ext cx="2587680" cy="26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D112-507A-42A3-89D3-D9AD46CB046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vent triggers a proces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rocess should have at least one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quenc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in the same swim lane (see l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Messag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between teams so swim lan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nchronous acti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9878-4F2F-4E0A-9DC6-BE76CCA90C6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14800" y="1219320"/>
            <a:ext cx="48769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Event is something that “happens” during the course of a business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affect the flow of the Process and usually have a trigger or a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can start, interrupt, or end the f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3282840" cy="495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C681-8CDA-4382-A580-EE199CA04FE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5029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Intermediate Events: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an exception or compensation hand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n by placing the Intermediate Event on the boundary of a Task or Sub-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timer ex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095880" y="1905120"/>
          <a:ext cx="195588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905120"/>
                    <a:ext cx="195588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27C4-BFD5-479A-B1E0-C879E969DC5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 types indicate the different ways that a Process may be interrupted or delayed after it has started. </a:t>
            </a: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Compensation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for compensation handling--both setting and performing compensation. It call for compensation if the Event is part of a Normal Flow. It reacts to a named compensation call when attached to the boundary of an activit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Ru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only used for exception handling. This type of event is triggered when a Rule becomes true. Link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24382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4382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228600" y="425304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25304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84A3-3FE5-4BC8-AFF6-2C57F1BE7CC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990720"/>
            <a:ext cx="6781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8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Link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Link is a mechanism for connecting an End Event (Result) of one Process to an Intermediate Event (Trigger) in another Process. Paired Intermediate Events can also be used as “Go To” objects within a Proces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Multip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means that there are multiple ways of triggering the Event. Only one of them will be require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5238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57200" y="327672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27672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F8DB-8A24-454C-B7CE-F545CD48CD7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67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144792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is work that is performed within a business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can be atomic or non-atomic (compoun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he types of activities that are a part of a Process Model are: Process, Sub-Process, and Ta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5064120" cy="33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FF6B-75E8-41C3-9308-038053C0932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8:27:15Z</dcterms:created>
  <dc:creator>jboyer</dc:creator>
  <dc:description/>
  <dc:language>en-US</dc:language>
  <cp:lastModifiedBy>Julio Prez</cp:lastModifiedBy>
  <dcterms:modified xsi:type="dcterms:W3CDTF">2008-12-17T13:17:42Z</dcterms:modified>
  <cp:revision>24</cp:revision>
  <dc:subject/>
  <dc:title>BPMN</dc:title>
</cp:coreProperties>
</file>