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30440"/>
            <a:ext cx="554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4501-C0F3-4C81-BEC5-5DE6238A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0A0E-BD59-4B99-9944-05DD3B61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23920" y="660240"/>
            <a:ext cx="2887920" cy="21654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7560" y="4278240"/>
            <a:ext cx="6381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 Download: RMC is available as a fully featured 30-day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Group on devWorks: Tons of useful information on RMC including: papers, tutorials, recorded demos, discussion forums, blog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SIG: Similar to the devWorks Group, but for internal use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- RTC Interop: Several short recorded demos of the RMC-RTC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sales Kit: Typical sales ki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Solution Process Assets: A support download page for RMC customers to download new and updated process assets made available between RMC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F2E-89F2-4C9C-9EDA-F27A62B7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3360" y="4332240"/>
            <a:ext cx="5545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27600" y="8661240"/>
            <a:ext cx="3003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3480"/>
                <a:tab algn="l" pos="2292480"/>
                <a:tab algn="l" pos="2751120"/>
                <a:tab algn="l" pos="3209760"/>
                <a:tab algn="l" pos="3668760"/>
                <a:tab algn="l" pos="4127400"/>
                <a:tab algn="l" pos="4584600"/>
                <a:tab algn="l" pos="5043600"/>
                <a:tab algn="l" pos="5502240"/>
                <a:tab algn="l" pos="5961240"/>
                <a:tab algn="l" pos="6419880"/>
                <a:tab algn="l" pos="6878520"/>
                <a:tab algn="l" pos="7337520"/>
                <a:tab algn="l" pos="7796160"/>
                <a:tab algn="l" pos="8255160"/>
                <a:tab algn="l" pos="8712360"/>
                <a:tab algn="l" pos="9171000"/>
                <a:tab algn="l" pos="9534600"/>
                <a:tab algn="l" pos="9968040"/>
                <a:tab algn="l" pos="10401480"/>
                <a:tab algn="l" pos="10834560"/>
              </a:tabLst>
            </a:pPr>
            <a:fld id="{36BDB8EC-68CF-4700-8902-2471BC343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F5C2-F0AB-419B-8EBD-22255888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93360" y="4332240"/>
            <a:ext cx="5545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-92160" y="-200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3480"/>
                <a:tab algn="l" pos="2292480"/>
                <a:tab algn="l" pos="2751120"/>
                <a:tab algn="l" pos="3209760"/>
                <a:tab algn="l" pos="3668760"/>
                <a:tab algn="l" pos="4127400"/>
                <a:tab algn="l" pos="4584600"/>
                <a:tab algn="l" pos="5043600"/>
                <a:tab algn="l" pos="5502240"/>
                <a:tab algn="l" pos="5961240"/>
                <a:tab algn="l" pos="6419880"/>
                <a:tab algn="l" pos="6878520"/>
                <a:tab algn="l" pos="7337520"/>
                <a:tab algn="l" pos="7796160"/>
                <a:tab algn="l" pos="8255160"/>
                <a:tab algn="l" pos="8712360"/>
                <a:tab algn="l" pos="9171000"/>
                <a:tab algn="l" pos="9534600"/>
                <a:tab algn="l" pos="9968040"/>
                <a:tab algn="l" pos="10401480"/>
                <a:tab algn="l" pos="10834560"/>
              </a:tabLst>
            </a:pPr>
            <a:fld id="{964DFCD1-ECDF-4F96-B053-A2596303D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256-9334-455D-8DA5-6C75AE8F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3360" y="4332240"/>
            <a:ext cx="5545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27600" y="8661240"/>
            <a:ext cx="3003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3480"/>
                <a:tab algn="l" pos="2292480"/>
                <a:tab algn="l" pos="2751120"/>
                <a:tab algn="l" pos="3209760"/>
                <a:tab algn="l" pos="3668760"/>
                <a:tab algn="l" pos="4127400"/>
                <a:tab algn="l" pos="4584600"/>
                <a:tab algn="l" pos="5043600"/>
                <a:tab algn="l" pos="5502240"/>
                <a:tab algn="l" pos="5961240"/>
                <a:tab algn="l" pos="6419880"/>
                <a:tab algn="l" pos="6878520"/>
                <a:tab algn="l" pos="7337520"/>
                <a:tab algn="l" pos="7796160"/>
                <a:tab algn="l" pos="8255160"/>
                <a:tab algn="l" pos="8712360"/>
                <a:tab algn="l" pos="9171000"/>
                <a:tab algn="l" pos="9534600"/>
                <a:tab algn="l" pos="9968040"/>
                <a:tab algn="l" pos="10401480"/>
                <a:tab algn="l" pos="10834560"/>
              </a:tabLst>
            </a:pPr>
            <a:fld id="{372801AD-CCD1-4675-A4B9-0DE066ACFA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B2DD-B767-4FC4-A2A9-723A98FD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023920" y="660240"/>
            <a:ext cx="2887920" cy="2165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77560" y="4278240"/>
            <a:ext cx="6381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 Download: RMC is available as a fully featured 30-day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Group on devWorks: Tons of useful information on RMC including: papers, tutorials, recorded demos, discussion forums, blog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SIG: Similar to the devWorks Group, but for internal use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- RTC Interop: Several short recorded demos of the RMC-RTC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sales Kit: Typical sales ki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Solution Process Assets: A support download page for RMC customers to download new and updated process assets made available between RMC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3F6-2B52-4C95-9830-7D8FD0A7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5E3-31CF-43DA-B9A8-8722A818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5A1-3528-4A8D-B37A-CA9930D4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EB8-6FF2-46CF-8F27-8C7321A7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7D3-4835-48A8-8FC9-2BFF5258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CF5-707A-429A-9107-1421A50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30C-9C02-491C-8887-B1459FC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33D-01E4-47BE-9FA5-C41918D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34C-58C8-453F-BD7E-92D2FFB0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270-371C-4C40-BFD9-44B344A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C01-EFAF-4EF1-91B7-E77251B4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29B-2673-454C-8C8E-BC22FA0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clipse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4AC8-EE82-430D-9C08-62DC739715F1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pic>
        <p:nvPicPr>
          <p:cNvPr id="5" name="" descr="Eclip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76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.dhe.ibm.com/infocenter/rmchelp/v7r5m2/topic/com.ibm.rmc.help.doc/topics/r_standard_types_rmc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s://www.ibm.com/developerworks/community/wikis/home?lang=en#!/wiki/W6b0a089a62f3_4493_bcc1_ebe60a2ebb41/page/Working%20with%20tables%20in%20the%20Rich%20Text%20Edito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8534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b1fe"/>
                </a:solidFill>
                <a:latin typeface="Arial"/>
              </a:rPr>
              <a:t>What’s new in EPF Composer 1.5.1.6 </a:t>
            </a:r>
            <a:br>
              <a:rPr sz="2800"/>
            </a:b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uce MacIsa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PF Project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acisaa@us.ibm.c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760" y="560160"/>
            <a:ext cx="89899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6b1fe"/>
                </a:solidFill>
                <a:latin typeface="Arial"/>
              </a:rPr>
              <a:t>General approach</a:t>
            </a:r>
            <a:endParaRPr b="0" lang="en-US" sz="38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1440" y="1329840"/>
            <a:ext cx="87822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focus is on commercial offering, Rational Method Composer (RM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continues to maintain E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s are added to EPF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162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sees a need to add a feature to E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n RMC enhancement in the shared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162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mpanies contribute (none for this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01640" y="6586560"/>
            <a:ext cx="17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7889fb"/>
                </a:solidFill>
                <a:latin typeface="Arial"/>
                <a:ea typeface="MS PGothic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514-3E23-48DF-8DB1-6C00B29E17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7840" y="536400"/>
            <a:ext cx="8618760" cy="392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Web site search by type, or title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440"/>
            <a:ext cx="43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search by title or element ty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: The title of the page, which is also the "presentation name" of the method e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a.type: The type of element, such as role, workproduct, or task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list of types is here:</a:t>
            </a:r>
            <a:br>
              <a:rPr sz="16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ic.dhe.ibm.com/infocenter/rmchelp/v7r5m2/topic/com.ibm.rmc.help.doc/topics/r_standard_types_rmc.html</a:t>
            </a:r>
            <a:br>
              <a:rPr sz="12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320040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42A-9A37-4CC8-ADD4-AEC84BDEA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b1fe"/>
                </a:solidFill>
                <a:latin typeface="Arial"/>
              </a:rPr>
              <a:t>Enhanced tables in the rich text editor</a:t>
            </a:r>
            <a:endParaRPr b="0" lang="en-US" sz="28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2360" y="1039320"/>
            <a:ext cx="51148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efox/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Context menu to append or delete last row/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01640" y="6537240"/>
            <a:ext cx="17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7889fb"/>
                </a:solidFill>
                <a:latin typeface="Arial"/>
                <a:ea typeface="MS PGothic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7280" y="1330200"/>
            <a:ext cx="3971880" cy="3495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61000" y="21607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542880" cy="742680"/>
          </a:xfrm>
          <a:prstGeom prst="rect">
            <a:avLst/>
          </a:prstGeom>
          <a:ln w="0">
            <a:noFill/>
          </a:ln>
        </p:spPr>
      </p:pic>
      <p:sp>
        <p:nvSpPr>
          <p:cNvPr id="64" name="Content Placeholder 2"/>
          <p:cNvSpPr/>
          <p:nvPr/>
        </p:nvSpPr>
        <p:spPr>
          <a:xfrm>
            <a:off x="5456160" y="1589040"/>
            <a:ext cx="51148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rmAutofit fontScale="18000"/>
          </a:bodyPr>
          <a:p>
            <a:pPr marL="30600" indent="-306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fox on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lumn, Insert column to left/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row, Insert row above/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06720" y="2397240"/>
            <a:ext cx="235440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081160" y="2784600"/>
            <a:ext cx="3384720" cy="9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2359080" y="3614760"/>
            <a:ext cx="1771560" cy="884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762120" y="5029200"/>
            <a:ext cx="70070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rmAutofit fontScale="33000"/>
          </a:bodyPr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modify EPF install on Windows to use Firefox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ibm.com/developerworks/community/wikis/home?lang=en#!/wiki/W6b0a089a62f3_4493_bcc1_ebe60a2ebb41/page/Working%20with%20tables%20in%20the%20Rich%20Text%20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dify epf.ini rather than rmc.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264-3BE8-4A27-9831-1F95F34DE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Guidance on new features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7840" y="1063440"/>
            <a:ext cx="861876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26000"/>
          </a:bodyPr>
          <a:p>
            <a:pPr marL="44280" indent="-44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help not yet upd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se links in the mean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 se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ibm.com/developerworks/community/wikis/home?lang=en#!/wiki/W6b0a089a62f3_4493_bcc1_ebe60a2ebb41/page/Web%20Site%20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ag search is an RMC-only featur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tables in the rich text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ibm.com/developerworks/community/wikis/home?lang=en#!/wiki/W6b0a089a62f3_4493_bcc1_ebe60a2ebb41/page/Working%20with%20tables%20in%20the%20Rich%20Text%20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701640" y="6537240"/>
            <a:ext cx="1768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Last Updated:  24 August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574-29B5-40FA-9BA7-011FA259A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760" y="560160"/>
            <a:ext cx="89899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6b1fe"/>
                </a:solidFill>
                <a:latin typeface="Arial"/>
              </a:rPr>
              <a:t>Other topics</a:t>
            </a:r>
            <a:endParaRPr b="0" lang="en-US" sz="38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1440" y="1329840"/>
            <a:ext cx="87822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84000"/>
          </a:bodyPr>
          <a:p>
            <a:pPr marL="14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F code develop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hua (Hua L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(Jin Sh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ntributed the code for EPF 1.5.1.6, and will be supporting EPF code for the forseeabl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: Vote them in as commi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request has been “best practices for managing large libra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ly will be RMC focu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volunteers to participate in a working group to capture such practice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me to volunteer: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uce Macisa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macisaa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opic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701640" y="6586560"/>
            <a:ext cx="17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7889fb"/>
                </a:solidFill>
                <a:latin typeface="Arial"/>
                <a:ea typeface="MS PGothic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4D4-8752-4FEF-B28A-4D2B856C5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4440" y="284220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Dem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97A-7114-49AE-8ADB-4CD2FF32F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4440" y="277560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Question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CD8-94E9-47F0-8A01-24D0D0CFD9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264204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Thank You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92A-0B88-41DA-BA19-9077DB97EB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3:51Z</dcterms:created>
  <dc:creator>Naveena Bereny</dc:creator>
  <dc:description/>
  <dc:language>en-US</dc:language>
  <cp:lastModifiedBy>bmacisaa2</cp:lastModifiedBy>
  <dcterms:modified xsi:type="dcterms:W3CDTF">2014-02-12T19:34:48Z</dcterms:modified>
  <cp:revision>90</cp:revision>
  <dc:subject/>
  <dc:title>Process Framework (Beacon) </dc:title>
</cp:coreProperties>
</file>