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9342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933600" cy="91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05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927240" y="0"/>
            <a:ext cx="30049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86920" y="684360"/>
            <a:ext cx="4559400" cy="3419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6b1fe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86b1fe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93720" y="4330440"/>
            <a:ext cx="554688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8661240"/>
            <a:ext cx="3005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927240" y="8661240"/>
            <a:ext cx="30049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C3CBB-E176-4777-83BB-3F67ED5659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927240" y="8661240"/>
            <a:ext cx="30049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80632-E6D5-42B8-89AC-5CD22375DF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0" y="8661240"/>
            <a:ext cx="3005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0" y="0"/>
            <a:ext cx="3005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3927240" y="0"/>
            <a:ext cx="30049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2023920" y="660240"/>
            <a:ext cx="2887920" cy="21654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277560" y="4278240"/>
            <a:ext cx="638172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al Download: RMC is available as a fully featured 30-day eval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MC and Practices Group on devWorks: Tons of useful information on RMC including: papers, tutorials, recorded demos, discussion forums, blogs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MC and Practices SIG: Similar to the devWorks Group, but for internal use on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MC- RTC Interop: Several short recorded demos of the RMC-RTC interopera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MC sales Kit: Typical sales kit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BM Solution Process Assets: A support download page for RMC customers to download new and updated process assets made available between RMC relea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3927240" y="8661240"/>
            <a:ext cx="30049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26397-142E-4C17-9759-7CBE239FA0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0" y="8661240"/>
            <a:ext cx="3005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0" y="0"/>
            <a:ext cx="3005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3927240" y="0"/>
            <a:ext cx="30049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87280" y="684360"/>
            <a:ext cx="4557960" cy="341784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93360" y="4332240"/>
            <a:ext cx="5545080" cy="41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lide Number Placeholder 3"/>
          <p:cNvSpPr/>
          <p:nvPr/>
        </p:nvSpPr>
        <p:spPr>
          <a:xfrm>
            <a:off x="3927600" y="8661240"/>
            <a:ext cx="300348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98000"/>
              </a:lnSpc>
              <a:tabLst>
                <a:tab algn="l" pos="0"/>
                <a:tab algn="l" pos="457200"/>
                <a:tab algn="l" pos="915840"/>
                <a:tab algn="l" pos="1374840"/>
                <a:tab algn="l" pos="1833480"/>
                <a:tab algn="l" pos="2292480"/>
                <a:tab algn="l" pos="2751120"/>
                <a:tab algn="l" pos="3209760"/>
                <a:tab algn="l" pos="3668760"/>
                <a:tab algn="l" pos="4127400"/>
                <a:tab algn="l" pos="4584600"/>
                <a:tab algn="l" pos="5043600"/>
                <a:tab algn="l" pos="5502240"/>
                <a:tab algn="l" pos="5961240"/>
                <a:tab algn="l" pos="6419880"/>
                <a:tab algn="l" pos="6878520"/>
                <a:tab algn="l" pos="7337520"/>
                <a:tab algn="l" pos="7796160"/>
                <a:tab algn="l" pos="8255160"/>
                <a:tab algn="l" pos="8712360"/>
                <a:tab algn="l" pos="9171000"/>
                <a:tab algn="l" pos="9534600"/>
                <a:tab algn="l" pos="9968040"/>
                <a:tab algn="l" pos="10401480"/>
                <a:tab algn="l" pos="10834560"/>
              </a:tabLst>
            </a:pPr>
            <a:fld id="{524658C6-AC5D-45C9-B3E7-E76BFD7ED12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3927240" y="8661240"/>
            <a:ext cx="30049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AA6C0-1539-4164-AA88-4B268EB48A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0" y="8661240"/>
            <a:ext cx="3005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0" y="0"/>
            <a:ext cx="3005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3927240" y="0"/>
            <a:ext cx="30049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87280" y="684360"/>
            <a:ext cx="4557960" cy="341784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93360" y="4332240"/>
            <a:ext cx="5545080" cy="41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lide Number Placeholder 3"/>
          <p:cNvSpPr/>
          <p:nvPr/>
        </p:nvSpPr>
        <p:spPr>
          <a:xfrm>
            <a:off x="-92160" y="-20016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98000"/>
              </a:lnSpc>
              <a:tabLst>
                <a:tab algn="l" pos="0"/>
                <a:tab algn="l" pos="457200"/>
                <a:tab algn="l" pos="915840"/>
                <a:tab algn="l" pos="1374840"/>
                <a:tab algn="l" pos="1833480"/>
                <a:tab algn="l" pos="2292480"/>
                <a:tab algn="l" pos="2751120"/>
                <a:tab algn="l" pos="3209760"/>
                <a:tab algn="l" pos="3668760"/>
                <a:tab algn="l" pos="4127400"/>
                <a:tab algn="l" pos="4584600"/>
                <a:tab algn="l" pos="5043600"/>
                <a:tab algn="l" pos="5502240"/>
                <a:tab algn="l" pos="5961240"/>
                <a:tab algn="l" pos="6419880"/>
                <a:tab algn="l" pos="6878520"/>
                <a:tab algn="l" pos="7337520"/>
                <a:tab algn="l" pos="7796160"/>
                <a:tab algn="l" pos="8255160"/>
                <a:tab algn="l" pos="8712360"/>
                <a:tab algn="l" pos="9171000"/>
                <a:tab algn="l" pos="9534600"/>
                <a:tab algn="l" pos="9968040"/>
                <a:tab algn="l" pos="10401480"/>
                <a:tab algn="l" pos="10834560"/>
              </a:tabLst>
            </a:pPr>
            <a:fld id="{DBC20C3B-0520-469C-AEA8-3B50FCA96D1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927240" y="8661240"/>
            <a:ext cx="30049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3B9F1-B62D-4B5B-B14F-0913AE50E2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0" y="8661240"/>
            <a:ext cx="3005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0" y="0"/>
            <a:ext cx="3005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927240" y="0"/>
            <a:ext cx="30049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87280" y="684360"/>
            <a:ext cx="4557960" cy="34178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93360" y="4332240"/>
            <a:ext cx="5545080" cy="41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3927600" y="8661240"/>
            <a:ext cx="300348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98000"/>
              </a:lnSpc>
              <a:tabLst>
                <a:tab algn="l" pos="0"/>
                <a:tab algn="l" pos="457200"/>
                <a:tab algn="l" pos="915840"/>
                <a:tab algn="l" pos="1374840"/>
                <a:tab algn="l" pos="1833480"/>
                <a:tab algn="l" pos="2292480"/>
                <a:tab algn="l" pos="2751120"/>
                <a:tab algn="l" pos="3209760"/>
                <a:tab algn="l" pos="3668760"/>
                <a:tab algn="l" pos="4127400"/>
                <a:tab algn="l" pos="4584600"/>
                <a:tab algn="l" pos="5043600"/>
                <a:tab algn="l" pos="5502240"/>
                <a:tab algn="l" pos="5961240"/>
                <a:tab algn="l" pos="6419880"/>
                <a:tab algn="l" pos="6878520"/>
                <a:tab algn="l" pos="7337520"/>
                <a:tab algn="l" pos="7796160"/>
                <a:tab algn="l" pos="8255160"/>
                <a:tab algn="l" pos="8712360"/>
                <a:tab algn="l" pos="9171000"/>
                <a:tab algn="l" pos="9534600"/>
                <a:tab algn="l" pos="9968040"/>
                <a:tab algn="l" pos="10401480"/>
                <a:tab algn="l" pos="10834560"/>
              </a:tabLst>
            </a:pPr>
            <a:fld id="{7A3D01A6-438C-4706-A0AA-F75E745B1FA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3927240" y="8661240"/>
            <a:ext cx="30049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AF5DE-A841-4D66-8640-B7F4610BDD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0" y="8661240"/>
            <a:ext cx="3005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0" y="0"/>
            <a:ext cx="3005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3927240" y="0"/>
            <a:ext cx="30049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2023920" y="660240"/>
            <a:ext cx="2887920" cy="21654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277560" y="4278240"/>
            <a:ext cx="638172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al Download: RMC is available as a fully featured 30-day eval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MC and Practices Group on devWorks: Tons of useful information on RMC including: papers, tutorials, recorded demos, discussion forums, blogs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MC and Practices SIG: Similar to the devWorks Group, but for internal use on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MC- RTC Interop: Several short recorded demos of the RMC-RTC interopera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MC sales Kit: Typical sales kit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BM Solution Process Assets: A support download page for RMC customers to download new and updated process assets made available between RMC relea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4B114-23E8-48AC-96AD-FFD170DB0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6b1fe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FE857-1E07-43ED-B6E8-6F31D0FC1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6b1fe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CC1D4-5E35-48AB-B4E2-CBA84819C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6b1fe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95EE5-E25C-4A92-B199-51D5B155A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6b1fe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DDFC5-E42B-457E-9971-4BDEFD5D4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6b1fe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00EF1-5B3C-4532-B033-4A2F34DC2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6b1fe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C6FA8-2F44-4187-90AA-FD1B97142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6b1f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6177B-551D-44F9-9C62-ABF20CD80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6400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FB47A-B524-4ADE-9446-04458F92C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6b1fe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417A3-1F78-427C-93EF-C0A2E89DE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6b1fe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A712A-FB30-430F-BC67-1E8CC4ADA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6b1fe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AF128-A891-46F5-A895-A3BAA6E7C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http://eclipse.org/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244920"/>
            <a:ext cx="1828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362320" y="6244920"/>
            <a:ext cx="4572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09920" y="6244920"/>
            <a:ext cx="1676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942B4-8769-40EE-99FF-AB58CD2BE3F0}" type="slidenum">
              <a:rPr b="0" lang="en-US" sz="12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6b1fe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6b1fe"/>
              </a:solidFill>
              <a:latin typeface="Arial"/>
            </a:endParaRPr>
          </a:p>
        </p:txBody>
      </p:sp>
      <p:pic>
        <p:nvPicPr>
          <p:cNvPr id="5" name="" descr="Eclips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391520" y="76320"/>
            <a:ext cx="1523880" cy="152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pic.dhe.ibm.com/infocenter/rmchelp/v7r5m2/topic/com.ibm.rmc.help.doc/topics/r_standard_types_rmc.html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hyperlink" Target="https://www.ibm.com/developerworks/community/wikis/home?lang=en#!/wiki/W6b0a089a62f3_4493_bcc1_ebe60a2ebb41/page/Working%20with%20tables%20in%20the%20Rich%20Text%20Editor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2057400"/>
            <a:ext cx="8534520" cy="9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6b1fe"/>
                </a:solidFill>
                <a:latin typeface="Arial"/>
              </a:rPr>
              <a:t>What’s new in EPF Composer 1.5.1.6 </a:t>
            </a:r>
            <a:br>
              <a:rPr sz="2800"/>
            </a:br>
            <a:endParaRPr b="0" lang="en-US" sz="3600" spc="-1" strike="noStrike">
              <a:solidFill>
                <a:srgbClr val="86b1fe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33520" y="342900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ruce MacIsaa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EPF Project L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bmacisaa@us.ibm.com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609480" y="281952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85760" y="560160"/>
            <a:ext cx="8989920" cy="4381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86b1fe"/>
                </a:solidFill>
                <a:latin typeface="Arial"/>
              </a:rPr>
              <a:t>General approach</a:t>
            </a:r>
            <a:endParaRPr b="0" lang="en-US" sz="3800" spc="-1" strike="noStrike">
              <a:solidFill>
                <a:srgbClr val="86b1fe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61440" y="1329840"/>
            <a:ext cx="8782200" cy="328932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171360" indent="-171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BM focus is on commercial offering, Rational Method Composer (RMC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BM continues to maintain EP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features are added to EPF 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36600" indent="-1620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BM sees a need to add a feature to EP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ypically an RMC enhancement in the shared 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36600" indent="-1620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 companies contribute (none for this releas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8"/>
          <p:cNvSpPr/>
          <p:nvPr/>
        </p:nvSpPr>
        <p:spPr>
          <a:xfrm>
            <a:off x="701640" y="6586560"/>
            <a:ext cx="1768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080" bIns="4608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7889fb"/>
                </a:solidFill>
                <a:latin typeface="Arial"/>
                <a:ea typeface="MS PGothic"/>
              </a:rPr>
              <a:t>IBM Confidenti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FE2BE-F29B-427E-A7B2-2253AE58185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67840" y="536400"/>
            <a:ext cx="8618760" cy="3924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6b1fe"/>
                </a:solidFill>
                <a:latin typeface="Arial"/>
              </a:rPr>
              <a:t>Web site search by type, or title</a:t>
            </a:r>
            <a:endParaRPr b="0" lang="en-US" sz="3600" spc="-1" strike="noStrike">
              <a:solidFill>
                <a:srgbClr val="86b1fe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80880" y="1828440"/>
            <a:ext cx="4383360" cy="350028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171360" indent="-1713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ou can search by title or element typ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tle: The title of the page, which is also the "presentation name" of the method elemen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ma.type: The type of element, such as role, workproduct, or task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lete list of types is here:</a:t>
            </a:r>
            <a:br>
              <a:rPr sz="1600"/>
            </a:b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pic.dhe.ibm.com/infocenter/rmchelp/v7r5m2/topic/com.ibm.rmc.help.doc/topics/r_standard_types_rmc.html</a:t>
            </a:r>
            <a:br>
              <a:rPr sz="1200"/>
            </a:b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5181480" y="2438280"/>
            <a:ext cx="3200400" cy="1704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48EF1-243C-4489-8AAA-1C7F622CD41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6b1fe"/>
                </a:solidFill>
                <a:latin typeface="Arial"/>
              </a:rPr>
              <a:t>Enhanced tables in the rich text editor</a:t>
            </a:r>
            <a:endParaRPr b="0" lang="en-US" sz="2800" spc="-1" strike="noStrike">
              <a:solidFill>
                <a:srgbClr val="86b1fe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252360" y="1039320"/>
            <a:ext cx="5114880" cy="3524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171360" indent="-17136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efox/I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: Context menu to append or delete last row/colum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8"/>
          <p:cNvSpPr/>
          <p:nvPr/>
        </p:nvSpPr>
        <p:spPr>
          <a:xfrm>
            <a:off x="701640" y="6537240"/>
            <a:ext cx="1768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080" bIns="4608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7889fb"/>
                </a:solidFill>
                <a:latin typeface="Arial"/>
                <a:ea typeface="MS PGothic"/>
              </a:rPr>
              <a:t>IBM Confidenti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87280" y="1330200"/>
            <a:ext cx="3971880" cy="3495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5661000" y="2160720"/>
            <a:ext cx="819000" cy="5428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5791320" y="3505320"/>
            <a:ext cx="542880" cy="742680"/>
          </a:xfrm>
          <a:prstGeom prst="rect">
            <a:avLst/>
          </a:prstGeom>
          <a:ln w="0">
            <a:noFill/>
          </a:ln>
        </p:spPr>
      </p:pic>
      <p:sp>
        <p:nvSpPr>
          <p:cNvPr id="64" name="Content Placeholder 2"/>
          <p:cNvSpPr/>
          <p:nvPr/>
        </p:nvSpPr>
        <p:spPr>
          <a:xfrm>
            <a:off x="5456160" y="1589040"/>
            <a:ext cx="511488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normAutofit fontScale="18000"/>
          </a:bodyPr>
          <a:p>
            <a:pPr marL="30600" indent="-3060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refox only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600" indent="-3060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lete column, Insert column to left/r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600" indent="-3060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600" indent="-3060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600" indent="-3060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600" indent="-3060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lete row, Insert row above/bel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600" indent="-3060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3006720" y="2397240"/>
            <a:ext cx="2354400" cy="156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 flipV="1">
            <a:off x="2081160" y="2784600"/>
            <a:ext cx="3384720" cy="977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3"/>
          <p:cNvSpPr/>
          <p:nvPr/>
        </p:nvSpPr>
        <p:spPr>
          <a:xfrm>
            <a:off x="2359080" y="3614760"/>
            <a:ext cx="1771560" cy="884160"/>
          </a:xfrm>
          <a:prstGeom prst="rect">
            <a:avLst/>
          </a:prstGeom>
          <a:noFill/>
          <a:ln w="1908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Content Placeholder 2"/>
          <p:cNvSpPr/>
          <p:nvPr/>
        </p:nvSpPr>
        <p:spPr>
          <a:xfrm>
            <a:off x="762120" y="5029200"/>
            <a:ext cx="70070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normAutofit fontScale="33000"/>
          </a:bodyPr>
          <a:p>
            <a:pPr marL="56520" indent="-5652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n modify EPF install on Windows to use Firefox, se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6520" indent="-5652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s://www.ibm.com/developerworks/community/wikis/home?lang=en#!/wiki/W6b0a089a62f3_4493_bcc1_ebe60a2ebb41/page/Working%20with%20tables%20in%20the%20Rich%20Text%20Edi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6520" indent="-5652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modify epf.ini rather than rmc.in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6520" indent="-5652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5406B-A67F-4648-A290-88E046DD0DC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6b1fe"/>
                </a:solidFill>
                <a:latin typeface="Arial"/>
              </a:rPr>
              <a:t>Guidance on new features</a:t>
            </a:r>
            <a:endParaRPr b="0" lang="en-US" sz="3600" spc="-1" strike="noStrike">
              <a:solidFill>
                <a:srgbClr val="86b1fe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67840" y="1063440"/>
            <a:ext cx="8618760" cy="97308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26000"/>
          </a:bodyPr>
          <a:p>
            <a:pPr marL="44280" indent="-442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ine help not yet upda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280" indent="-442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these links in the meantim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280" indent="-442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280" indent="-44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b site searc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280" indent="-442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ww.ibm.com/developerworks/community/wikis/home?lang=en#!/wiki/W6b0a089a62f3_4493_bcc1_ebe60a2ebb41/page/Web%20Site%20Sear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280" indent="-442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tag search is an RMC-only feature)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280" indent="-44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ing with tables in the rich text edi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280" indent="-442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ww.ibm.com/developerworks/community/wikis/home?lang=en#!/wiki/W6b0a089a62f3_4493_bcc1_ebe60a2ebb41/page/Working%20with%20tables%20in%20the%20Rich%20Text%20Edi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Date Placeholder 3"/>
          <p:cNvSpPr/>
          <p:nvPr/>
        </p:nvSpPr>
        <p:spPr>
          <a:xfrm>
            <a:off x="701640" y="6537240"/>
            <a:ext cx="176868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080" bIns="4608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MS PGothic"/>
              </a:rPr>
              <a:t>Last Updated:  24 August 20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E128C-69DA-4439-974E-72E1AE534D8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85760" y="560160"/>
            <a:ext cx="8989920" cy="4381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86b1fe"/>
                </a:solidFill>
                <a:latin typeface="Arial"/>
              </a:rPr>
              <a:t>Other topics</a:t>
            </a:r>
            <a:endParaRPr b="0" lang="en-US" sz="3800" spc="-1" strike="noStrike">
              <a:solidFill>
                <a:srgbClr val="86b1fe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61440" y="1329840"/>
            <a:ext cx="8782200" cy="328932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84000"/>
          </a:bodyPr>
          <a:p>
            <a:pPr marL="143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F code development tea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82600" indent="-136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shua (Hua Li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2600" indent="-136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 (Jin Sh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2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y contributed the code for EPF 1.5.1.6, and will be supporting EPF code for the forseeable fu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2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tion: Vote them in as commit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2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43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bin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82600" indent="-136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est request has been “best practices for managing large librarie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kely will be RMC focus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ed volunteers to participate in a working group to capture such practices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mail me to volunteer: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43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ruce Macisaac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macisaa@us.ibm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82600" indent="-136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 topic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"/>
          <p:cNvSpPr/>
          <p:nvPr/>
        </p:nvSpPr>
        <p:spPr>
          <a:xfrm>
            <a:off x="701640" y="6586560"/>
            <a:ext cx="1768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080" bIns="4608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7889fb"/>
                </a:solidFill>
                <a:latin typeface="Arial"/>
                <a:ea typeface="MS PGothic"/>
              </a:rPr>
              <a:t>IBM Confidenti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0CC43-CB03-4FBD-B633-BC904935EB2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928800" y="1763640"/>
            <a:ext cx="7305480" cy="60984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907920" y="1755720"/>
            <a:ext cx="7328160" cy="3498840"/>
          </a:xfrm>
          <a:prstGeom prst="rect">
            <a:avLst/>
          </a:prstGeom>
          <a:noFill/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414440" y="2842200"/>
            <a:ext cx="6311880" cy="125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5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500" spc="-1" strike="noStrike">
                <a:solidFill>
                  <a:srgbClr val="377eb7"/>
                </a:solidFill>
                <a:latin typeface="Arial"/>
                <a:ea typeface="Arial"/>
              </a:rPr>
              <a:t>Demo</a:t>
            </a: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A825C-CF3E-46D7-B6C5-8B96738194B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928800" y="1763640"/>
            <a:ext cx="7305480" cy="60984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907920" y="1755720"/>
            <a:ext cx="7328160" cy="3498840"/>
          </a:xfrm>
          <a:prstGeom prst="rect">
            <a:avLst/>
          </a:prstGeom>
          <a:noFill/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414440" y="2775600"/>
            <a:ext cx="6311880" cy="125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5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500" spc="-1" strike="noStrike">
                <a:solidFill>
                  <a:srgbClr val="377eb7"/>
                </a:solidFill>
                <a:latin typeface="Arial"/>
                <a:ea typeface="Arial"/>
              </a:rPr>
              <a:t>Questions</a:t>
            </a: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4163C-F447-40D6-A5E7-460438F3EB6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928800" y="1763640"/>
            <a:ext cx="7305480" cy="60984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907920" y="1755720"/>
            <a:ext cx="7328160" cy="3498840"/>
          </a:xfrm>
          <a:prstGeom prst="rect">
            <a:avLst/>
          </a:prstGeom>
          <a:noFill/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414440" y="2642040"/>
            <a:ext cx="6311880" cy="125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5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500" spc="-1" strike="noStrike">
                <a:solidFill>
                  <a:srgbClr val="377eb7"/>
                </a:solidFill>
                <a:latin typeface="Arial"/>
                <a:ea typeface="Arial"/>
              </a:rPr>
              <a:t>Thank You</a:t>
            </a: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7C77F-57CE-4F92-A9C7-221B7C18C9E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1T22:13:51Z</dcterms:created>
  <dc:creator>Naveena Bereny</dc:creator>
  <dc:description/>
  <dc:language>en-US</dc:language>
  <cp:lastModifiedBy>bmacisaa2</cp:lastModifiedBy>
  <dcterms:modified xsi:type="dcterms:W3CDTF">2014-02-12T19:34:48Z</dcterms:modified>
  <cp:revision>90</cp:revision>
  <dc:subject/>
  <dc:title>Process Framework (Beacon) </dc:title>
</cp:coreProperties>
</file>