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C564-7FAD-419B-AF16-208B139B59E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points can be used by the plug-in itself or another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an extension point, you must provide an </a:t>
            </a:r>
            <a:r>
              <a:rPr b="1" lang="en-US" sz="1200" spc="-1" strike="noStrike">
                <a:solidFill>
                  <a:srgbClr val="000000"/>
                </a:solidFill>
                <a:latin typeface="Arial"/>
              </a:rPr>
              <a:t>id</a:t>
            </a:r>
            <a:r>
              <a:rPr b="0" lang="en-US" sz="1200" spc="-1" strike="noStrike">
                <a:solidFill>
                  <a:srgbClr val="000000"/>
                </a:solidFill>
                <a:latin typeface="Arial"/>
              </a:rPr>
              <a:t> and </a:t>
            </a:r>
            <a:r>
              <a:rPr b="1" lang="en-US" sz="1200" spc="-1" strike="noStrike">
                <a:solidFill>
                  <a:srgbClr val="000000"/>
                </a:solidFill>
                <a:latin typeface="Arial"/>
              </a:rPr>
              <a:t>name</a:t>
            </a:r>
            <a:r>
              <a:rPr b="0" lang="en-US" sz="1200" spc="-1" strike="noStrike">
                <a:solidFill>
                  <a:srgbClr val="000000"/>
                </a:solidFill>
                <a:latin typeface="Arial"/>
              </a:rPr>
              <a:t>. The </a:t>
            </a:r>
            <a:r>
              <a:rPr b="1" lang="en-US" sz="1200" spc="-1" strike="noStrike">
                <a:solidFill>
                  <a:srgbClr val="000000"/>
                </a:solidFill>
                <a:latin typeface="Arial"/>
              </a:rPr>
              <a:t>id</a:t>
            </a:r>
            <a:r>
              <a:rPr b="0" lang="en-US" sz="1200" spc="-1" strike="noStrike">
                <a:solidFill>
                  <a:srgbClr val="000000"/>
                </a:solidFill>
                <a:latin typeface="Arial"/>
              </a:rPr>
              <a:t> needs to be simple name. Other plug-ins will use the fully qualified version that uses your plug-in id as a prefix.  For example, extension point </a:t>
            </a:r>
            <a:r>
              <a:rPr b="1" lang="en-US" sz="1200" spc="-1" strike="noStrike">
                <a:solidFill>
                  <a:srgbClr val="000000"/>
                </a:solidFill>
                <a:latin typeface="Arial"/>
              </a:rPr>
              <a:t>foo</a:t>
            </a:r>
            <a:r>
              <a:rPr b="0" lang="en-US" sz="1200" spc="-1" strike="noStrike">
                <a:solidFill>
                  <a:srgbClr val="000000"/>
                </a:solidFill>
                <a:latin typeface="Arial"/>
              </a:rPr>
              <a:t> must be referenced using </a:t>
            </a:r>
            <a:r>
              <a:rPr b="1" lang="en-US" sz="1200" spc="-1" strike="noStrike">
                <a:solidFill>
                  <a:srgbClr val="000000"/>
                </a:solidFill>
                <a:latin typeface="Arial"/>
              </a:rPr>
              <a:t>com.example.xyz.foo</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ontribute to the extension points defined by those plug-ins that they require.  Your extension syntax must match the extension point definition in order to be processed correctl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see the jUnit plug-in directory. The jUnit plug-in is available after downloading and installing Eclipse. Every plug-in directory has archive and manifest files. In the above example there are two addition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html that contains detailed textual description about plug-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properties file that contains information about plugin that is used from Eclipse framewor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clipse platform is structured as a core runtime engine and a set of additional features that are installed as platform </a:t>
            </a:r>
            <a:r>
              <a:rPr b="1" lang="en-US" sz="1000" spc="-1" strike="noStrike">
                <a:solidFill>
                  <a:srgbClr val="000000"/>
                </a:solidFill>
                <a:latin typeface="Arial"/>
              </a:rPr>
              <a:t>plug-ins</a:t>
            </a:r>
            <a:r>
              <a:rPr b="0" lang="en-US" sz="1000" spc="-1" strike="noStrike">
                <a:solidFill>
                  <a:srgbClr val="000000"/>
                </a:solidFill>
                <a:latin typeface="Arial"/>
              </a:rPr>
              <a:t>. Plug-ins contribute functionality to the platform by contributing to pre-defined </a:t>
            </a:r>
            <a:r>
              <a:rPr b="1" lang="en-US" sz="1000" spc="-1" strike="noStrike">
                <a:solidFill>
                  <a:srgbClr val="000000"/>
                </a:solidFill>
                <a:latin typeface="Arial"/>
              </a:rPr>
              <a:t>extension points</a:t>
            </a:r>
            <a:r>
              <a:rPr b="0" lang="en-US" sz="1000" spc="-1" strike="noStrike">
                <a:solidFill>
                  <a:srgbClr val="000000"/>
                </a:solidFill>
                <a:latin typeface="Arial"/>
              </a:rPr>
              <a:t>. The workbench UI is contributed by one such plug-in. When you start up the workbench, you are not starting up a single Java program. You are activating a platform runtime which can dynamically discover registered plug-ins and start them as needed.</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want to provide code that extends the platform, you do this by defining system extensions in your plug-in. The platform has a well-defined set of extension points - places where you can hook into the platform and contribute system behavior. From the platform's perspective, your plug-in is no different from basic plug-ins like the resource management system or the workbench itself.</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how does your code become a plug-in?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e how your plug-in will be integrated with the platform.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the extension points that you need to contribute in order to integrate your plug-in.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these extensions according to the specification for the extension points.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a manifest file (plugin.xml) that describes the extensions you are providing and the packaging of your code.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xml file above is an example from Eclipse’s on-line documentation and describes plugin that extends Eclipse views. The plug-in is a Hello World view that displays greeting in the view. Implementation code of the plug-in is located in the helloworld.jar file that is specified as the library attribute of the runtime xml ta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un a plug-in you need to but everything together into a JAR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install a plug-in into a directory underneath the platform's plug-in directory. This directory corresponds to your plug-in id, which must be unique.  The standard practice for plug-in directory names is to use the plug-in's fully qualified id, including the dots, for example, </a:t>
            </a:r>
            <a:r>
              <a:rPr b="1" lang="en-US" sz="1200" spc="-1" strike="noStrike">
                <a:solidFill>
                  <a:srgbClr val="000000"/>
                </a:solidFill>
                <a:latin typeface="Arial"/>
              </a:rPr>
              <a:t>com.examples.helloworld</a:t>
            </a:r>
            <a:r>
              <a:rPr b="0" lang="en-US" sz="1200" spc="-1" strike="noStrike">
                <a:solidFill>
                  <a:srgbClr val="000000"/>
                </a:solidFill>
                <a:latin typeface="Arial"/>
              </a:rPr>
              <a:t>. (The plug-in directory is named </a:t>
            </a:r>
            <a:r>
              <a:rPr b="1" lang="en-US" sz="1200" spc="-1" strike="noStrike">
                <a:solidFill>
                  <a:srgbClr val="000000"/>
                </a:solidFill>
                <a:latin typeface="Arial"/>
              </a:rPr>
              <a:t>plugins</a:t>
            </a:r>
            <a:r>
              <a:rPr b="0" lang="en-US" sz="1200" spc="-1" strike="noStrike">
                <a:solidFill>
                  <a:srgbClr val="000000"/>
                </a:solidFill>
                <a:latin typeface="Arial"/>
              </a:rPr>
              <a:t> and is typically located underneath the main directory where you installed the platform.) Copy the JAR file and the </a:t>
            </a:r>
            <a:r>
              <a:rPr b="1" lang="en-US" sz="1200" spc="-1" strike="noStrike">
                <a:solidFill>
                  <a:srgbClr val="000000"/>
                </a:solidFill>
                <a:latin typeface="Arial"/>
              </a:rPr>
              <a:t>plugin.xml</a:t>
            </a:r>
            <a:r>
              <a:rPr b="0" lang="en-US" sz="1200" spc="-1" strike="noStrike">
                <a:solidFill>
                  <a:srgbClr val="000000"/>
                </a:solidFill>
                <a:latin typeface="Arial"/>
              </a:rPr>
              <a:t> to this new directory. If you have other resources such as about.html or icons, they also need to be copied to the director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gments are treated as real plug-ins. If you query the platform plug-in registry, you would see the extensions and other function provided in the fragment as if it was in the original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frequent use of fragments is to deliver OS or windowing system-specific features. They are ideal for shipping features that follow initial release, for example specific languag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API element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package</a:t>
            </a:r>
            <a:r>
              <a:rPr b="0" lang="en-US" sz="1200" spc="-1" strike="noStrike">
                <a:solidFill>
                  <a:srgbClr val="000000"/>
                </a:solidFill>
                <a:latin typeface="Arial"/>
                <a:ea typeface="Arial"/>
              </a:rPr>
              <a:t> - a Java™ package that contains at least one API class or API interface. The names of API packages may legitimately appear in clien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class or interface</a:t>
            </a:r>
            <a:r>
              <a:rPr b="0" lang="en-US" sz="1200" spc="-1" strike="noStrike">
                <a:solidFill>
                  <a:srgbClr val="000000"/>
                </a:solidFill>
                <a:latin typeface="Arial"/>
                <a:ea typeface="Arial"/>
              </a:rPr>
              <a:t> - a public class or interface in an API package, or a public or protected class or interface member declared in, or inherited by, some other API class or interface. The names of API classes and interface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method or constructor</a:t>
            </a:r>
            <a:r>
              <a:rPr b="0" lang="en-US" sz="1200" spc="-1" strike="noStrike">
                <a:solidFill>
                  <a:srgbClr val="000000"/>
                </a:solidFill>
                <a:latin typeface="Arial"/>
                <a:ea typeface="Arial"/>
              </a:rPr>
              <a:t> - a public or protected method or constructor either declared in, or inherited by, an API class or interface. The names of API method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field</a:t>
            </a:r>
            <a:r>
              <a:rPr b="0" lang="en-US" sz="1200" spc="-1" strike="noStrike">
                <a:solidFill>
                  <a:srgbClr val="000000"/>
                </a:solidFill>
                <a:latin typeface="Arial"/>
                <a:ea typeface="Arial"/>
              </a:rPr>
              <a:t> - a public or protected field either declared in, or inherited by, an API class or interface. The names of API fields may legitimately appear in client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oncrete API classes are intended to be instantiated. API classes have an instantiation contract indicating the terms under which instances may be created. Classes that are designed to be instantiated by clients are explicitly flagged in the Javadoc class comment (with words like "Clients may instant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API classes were designed to be subclassed. API classes have a subclass contract indicating the terms under which subclasses may be declared. This contract also covers initialization responsibilities and lifecycle responsibilities. Classes that are designed to be subclassed by clients are explicitly flagged in the Javadoc class comment (with words like "Clients may sub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ing protected API methods is possible from API subclasses, i.e. if your class subclasses platform API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public and protected API methods were designed to be overridden. Each API method has a subclass contract indicating the terms under which a subclass may override it. By default, overriding is not permitted. It is important to check the subclass contract on the actual method implementation being overridden; the terms of subclass contracts are not automatically passed along when that method is overrid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interfaces have a contract indicating the terms under which it may be implemented. Interfaces that are designed to be implemented by clients are explicitly flagged in the Javadoc class comment (with words like "Clients may implem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isk, an Eclipse-based product is structured as a collection of </a:t>
            </a:r>
            <a:r>
              <a:rPr b="0" i="1" lang="en-US" sz="1200" spc="-1" strike="noStrike">
                <a:solidFill>
                  <a:srgbClr val="000000"/>
                </a:solidFill>
                <a:latin typeface="Arial"/>
              </a:rPr>
              <a:t>plug-ins</a:t>
            </a:r>
            <a:r>
              <a:rPr b="0" lang="en-US" sz="1200" spc="-1" strike="noStrike">
                <a:solidFill>
                  <a:srgbClr val="000000"/>
                </a:solidFill>
                <a:latin typeface="Arial"/>
              </a:rPr>
              <a:t>. Each plug-in contains the code that provides some of the product's functionality. The code and other files for a plug-in are installed on the local computer, and get activated automatically as required. A product's plug-ins are grouped together into features. A </a:t>
            </a:r>
            <a:r>
              <a:rPr b="0" i="1" lang="en-US" sz="1200" spc="-1" strike="noStrike">
                <a:solidFill>
                  <a:srgbClr val="000000"/>
                </a:solidFill>
                <a:latin typeface="Arial"/>
              </a:rPr>
              <a:t>feature</a:t>
            </a:r>
            <a:r>
              <a:rPr b="0" lang="en-US" sz="1200" spc="-1" strike="noStrike">
                <a:solidFill>
                  <a:srgbClr val="000000"/>
                </a:solidFill>
                <a:latin typeface="Arial"/>
              </a:rPr>
              <a:t> is the smallest unit of separately downloadable and installable functionality. (The notion of a feature is new for Eclipse 2.0; it replaces the similar notion of component in Eclips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ly modular nature of the Eclipse platform makes it easy to install additional features and plug-ins into an Eclipse-based product, and to update the product's existing features and plug-ins. You can do this either by using traditional native installers running separately from Eclipse, or by using the Eclipse platform's own update manager. The Eclipse </a:t>
            </a:r>
            <a:r>
              <a:rPr b="0" i="1" lang="en-US" sz="1200" spc="-1" strike="noStrike">
                <a:solidFill>
                  <a:srgbClr val="000000"/>
                </a:solidFill>
                <a:latin typeface="Arial"/>
              </a:rPr>
              <a:t>update manager</a:t>
            </a:r>
            <a:r>
              <a:rPr b="0" lang="en-US" sz="1200" spc="-1" strike="noStrike">
                <a:solidFill>
                  <a:srgbClr val="000000"/>
                </a:solidFill>
                <a:latin typeface="Arial"/>
              </a:rPr>
              <a:t> can be used to discover, download, and install updated features and plug-ins from special web-based Eclipse update sit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underlying mechanism of the update manager is simple: the files for a feature or plug-in are always stored in a subdirectory whose name includes a version identifier (e.g., "2.0.0"). Different versions of a feature or plug-in are always given different version identifiers, thereby ensuring that the multiple versions of the same feature or plug-in can co-exist on disk. This means that installing or updating features and plug-ins requires adding more files, but never requires deleting or overwriting existing files. Once the files are installed on the local computer, the new feature and plug-in versions are available to be configured. The same installed base of files is therefore capable of supporting many different </a:t>
            </a:r>
            <a:r>
              <a:rPr b="0" i="1" lang="en-US" sz="1200" spc="-1" strike="noStrike">
                <a:solidFill>
                  <a:srgbClr val="000000"/>
                </a:solidFill>
                <a:latin typeface="Arial"/>
              </a:rPr>
              <a:t>configurations</a:t>
            </a:r>
            <a:r>
              <a:rPr b="0" lang="en-US" sz="1200" spc="-1" strike="noStrike">
                <a:solidFill>
                  <a:srgbClr val="000000"/>
                </a:solidFill>
                <a:latin typeface="Arial"/>
              </a:rPr>
              <a:t> simultaneously; installing and upgrading an existing product are reduced to formulating a configuration incrementally newer than the current one. Important configurations can be saved and restored to active service in the event of an unsuccessful up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reas where use of tools is essential for the developers. The integration between the tool and basic IDE (Integrated Development Environment) is usually time consuming and complex process. Eclipse, with its integration framework reduces time to market and allows vendors not to focus on the integration but on the too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ts integration framework Eclipse allows tools to integrate with platform instead of integrating between themselv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Platform’s Registry provides a mechanism to register tools to be invoked on specific resource types. The registry is independent of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of a plug-in is described in a plug-in manifest fi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has many facilities that support development of UI. These include SWT, wizards frameworks, etc. The Workbench provides extension points for adding new views, editors, wizards, preference pages, builders, project natures, perspectives, splash screens, et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4440" y="685800"/>
            <a:ext cx="4570560" cy="3429000"/>
          </a:xfrm>
          <a:prstGeom prst="rect">
            <a:avLst/>
          </a:prstGeom>
          <a:ln w="0">
            <a:noFill/>
          </a:ln>
        </p:spPr>
      </p:sp>
      <p:sp>
        <p:nvSpPr>
          <p:cNvPr id="275"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3495-72D1-46C3-AD3B-60595E86DA8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54160" y="690480"/>
            <a:ext cx="4552920" cy="3414960"/>
          </a:xfrm>
          <a:prstGeom prst="rect">
            <a:avLst/>
          </a:prstGeom>
          <a:ln w="0">
            <a:noFill/>
          </a:ln>
        </p:spPr>
      </p:sp>
      <p:sp>
        <p:nvSpPr>
          <p:cNvPr id="22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9031-D493-4A33-A378-28AB83CEB4F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54160" y="690480"/>
            <a:ext cx="4552920" cy="3414960"/>
          </a:xfrm>
          <a:prstGeom prst="rect">
            <a:avLst/>
          </a:prstGeom>
          <a:ln w="0">
            <a:noFill/>
          </a:ln>
        </p:spPr>
      </p:sp>
      <p:sp>
        <p:nvSpPr>
          <p:cNvPr id="23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 This discussion includes Eclipse’s general architecture, its platform runtime, how Eclipse is extended through plug-in and extension points, APIs and its integration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is structured around the concept of </a:t>
            </a:r>
            <a:r>
              <a:rPr b="1" lang="en-US" sz="1200" spc="-1" strike="noStrike">
                <a:solidFill>
                  <a:srgbClr val="000000"/>
                </a:solidFill>
                <a:latin typeface="Arial"/>
              </a:rPr>
              <a:t>extension points</a:t>
            </a:r>
            <a:r>
              <a:rPr b="0" lang="en-US" sz="1200" spc="-1" strike="noStrike">
                <a:solidFill>
                  <a:srgbClr val="000000"/>
                </a:solidFill>
                <a:latin typeface="Arial"/>
              </a:rPr>
              <a:t>.  Extension points are well-defined places in the system where other tools (called </a:t>
            </a:r>
            <a:r>
              <a:rPr b="1" lang="en-US" sz="1200" spc="-1" strike="noStrike">
                <a:solidFill>
                  <a:srgbClr val="000000"/>
                </a:solidFill>
                <a:latin typeface="Arial"/>
              </a:rPr>
              <a:t>plug-ins</a:t>
            </a:r>
            <a:r>
              <a:rPr b="0" lang="en-US" sz="1200" spc="-1" strike="noStrike">
                <a:solidFill>
                  <a:srgbClr val="000000"/>
                </a:solidFill>
                <a:latin typeface="Arial"/>
              </a:rPr>
              <a:t>) can contribut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major subsystem in the platform is itself structured as a set of plug-ins that implement some key function and define extension points.  The Eclipse system itself is built by contributing to the same extension points that third party plug-in providers can use.  Plug-ins can define their own extension points or simply add </a:t>
            </a:r>
            <a:r>
              <a:rPr b="1" lang="en-US" sz="1200" spc="-1" strike="noStrike">
                <a:solidFill>
                  <a:srgbClr val="000000"/>
                </a:solidFill>
                <a:latin typeface="Arial"/>
              </a:rPr>
              <a:t>extensions</a:t>
            </a:r>
            <a:r>
              <a:rPr b="0" lang="en-US" sz="1200" spc="-1" strike="noStrike">
                <a:solidFill>
                  <a:srgbClr val="000000"/>
                </a:solidFill>
                <a:latin typeface="Arial"/>
              </a:rPr>
              <a:t> to the extension points of other plug-i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atform subsystems typically add visible features to the platform and provide APIs for extending their functionality. Some of these components supply additional class libraries that do not directly relate to an extension point, but can be used to implement extensions. For example, the workbench UI supplies the JFace UI framework and the SWT widget toolk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clipse SDK includes the basic platform plus two major tools that are useful for plug-in development. The Java development tooling (JDT) implements a full featured Java development environment. The Plug-in Developer Environment (PDE) adds specialized tools that streamline the development of plug-ins and extens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atform runtime core implements the runtime engine that starts the platform base and dynamically discovers plug-ins. A </a:t>
            </a:r>
            <a:r>
              <a:rPr b="1" lang="en-US" sz="800" spc="-1" strike="noStrike">
                <a:solidFill>
                  <a:srgbClr val="000000"/>
                </a:solidFill>
                <a:latin typeface="Arial"/>
              </a:rPr>
              <a:t>plug-in</a:t>
            </a:r>
            <a:r>
              <a:rPr b="0" lang="en-US" sz="800" spc="-1" strike="noStrike">
                <a:solidFill>
                  <a:srgbClr val="000000"/>
                </a:solidFill>
                <a:latin typeface="Arial"/>
              </a:rPr>
              <a:t> is a structured component that describes itself to the system using a manifest (</a:t>
            </a:r>
            <a:r>
              <a:rPr b="1" lang="en-US" sz="800" spc="-1" strike="noStrike">
                <a:solidFill>
                  <a:srgbClr val="000000"/>
                </a:solidFill>
                <a:latin typeface="Arial"/>
              </a:rPr>
              <a:t>plugin.xml</a:t>
            </a:r>
            <a:r>
              <a:rPr b="0" lang="en-US" sz="800" spc="-1" strike="noStrike">
                <a:solidFill>
                  <a:srgbClr val="000000"/>
                </a:solidFill>
                <a:latin typeface="Arial"/>
              </a:rPr>
              <a:t>) file. The platform maintains a registry of installed plug-ins and the function they prov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is added to the system using a common extension model. </a:t>
            </a:r>
            <a:r>
              <a:rPr b="1" lang="en-US" sz="800" spc="-1" strike="noStrike">
                <a:solidFill>
                  <a:srgbClr val="000000"/>
                </a:solidFill>
                <a:latin typeface="Arial"/>
              </a:rPr>
              <a:t>Extension points</a:t>
            </a:r>
            <a:r>
              <a:rPr b="0" lang="en-US" sz="800" spc="-1" strike="noStrike">
                <a:solidFill>
                  <a:srgbClr val="000000"/>
                </a:solidFill>
                <a:latin typeface="Arial"/>
              </a:rPr>
              <a:t> are well-defined function points in the system that can be extended by plug-ins. When a plug-in contributes an implementation for an extension point, we say that it adds an </a:t>
            </a:r>
            <a:r>
              <a:rPr b="1" lang="en-US" sz="800" spc="-1" strike="noStrike">
                <a:solidFill>
                  <a:srgbClr val="000000"/>
                </a:solidFill>
                <a:latin typeface="Arial"/>
              </a:rPr>
              <a:t>extension</a:t>
            </a:r>
            <a:r>
              <a:rPr b="0" lang="en-US" sz="800" spc="-1" strike="noStrike">
                <a:solidFill>
                  <a:srgbClr val="000000"/>
                </a:solidFill>
                <a:latin typeface="Arial"/>
              </a:rPr>
              <a:t> to the platform. Plug-ins can define their own extension points, so that other plug-ins can integrate tightly with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xtension mechanisms are the only means of adding function to the platform and other plug-ins. All plug-ins use the same mechanisms.  Plug-ins provided with the Eclipse SDK do not use any private mechanisms in their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ensions are typically written in Java using the platform APIs. However, some extension points accommodate extensions provided as platform executables, ActiveX components, or developed in scripting languages. In general, only a subset of the full platform function is available to non-Java exten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eneral goal of the runtime is that the end user should not pay a memory or performance penalty for plug-ins that are installed, but not used. A plug-in can be installed and added to the registry, but the plug-in will not be activated unless a function provided by the plug-in has been requested according to the user's activ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management plug-in defines a common resource model for managing the artifacts of tool plug-ins. Plug-ins can create and modify </a:t>
            </a:r>
            <a:r>
              <a:rPr b="1" lang="en-US" sz="800" spc="-1" strike="noStrike">
                <a:solidFill>
                  <a:srgbClr val="000000"/>
                </a:solidFill>
                <a:latin typeface="Arial"/>
              </a:rPr>
              <a:t>projects</a:t>
            </a:r>
            <a:r>
              <a:rPr b="0" lang="en-US" sz="800" spc="-1" strike="noStrike">
                <a:solidFill>
                  <a:srgbClr val="000000"/>
                </a:solidFill>
                <a:latin typeface="Arial"/>
              </a:rPr>
              <a:t>, </a:t>
            </a:r>
            <a:r>
              <a:rPr b="1" lang="en-US" sz="800" spc="-1" strike="noStrike">
                <a:solidFill>
                  <a:srgbClr val="000000"/>
                </a:solidFill>
                <a:latin typeface="Arial"/>
              </a:rPr>
              <a:t>folders</a:t>
            </a:r>
            <a:r>
              <a:rPr b="0" lang="en-US" sz="800" spc="-1" strike="noStrike">
                <a:solidFill>
                  <a:srgbClr val="000000"/>
                </a:solidFill>
                <a:latin typeface="Arial"/>
              </a:rPr>
              <a:t>, and </a:t>
            </a:r>
            <a:r>
              <a:rPr b="1" lang="en-US" sz="800" spc="-1" strike="noStrike">
                <a:solidFill>
                  <a:srgbClr val="000000"/>
                </a:solidFill>
                <a:latin typeface="Arial"/>
              </a:rPr>
              <a:t>files</a:t>
            </a:r>
            <a:r>
              <a:rPr b="0" lang="en-US" sz="800" spc="-1" strike="noStrike">
                <a:solidFill>
                  <a:srgbClr val="000000"/>
                </a:solidFill>
                <a:latin typeface="Arial"/>
              </a:rPr>
              <a:t>, as well as define specialized types of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bench U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implements the workbench UI and defines a number of extension points that allow other plug-ins to contribute menu and toolbar actions, drag and drop operations, dialogs, wizards, and custom views and edi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also provides frameworks that are useful for user interface development.  These frameworks were used to develop the workbench itself.  Using the frameworks not only eases the development of a plug-in's user interface, but ensures that plug-ins have a common look and feel and consistent level of workbench integ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Standard Widget Toolkit</a:t>
            </a:r>
            <a:r>
              <a:rPr b="0" lang="en-US" sz="800" spc="-1" strike="noStrike">
                <a:solidFill>
                  <a:srgbClr val="000000"/>
                </a:solidFill>
                <a:latin typeface="Arial"/>
              </a:rPr>
              <a:t> (SWT) is a low-level, operating system independent toolkit that supports platform integration and portable API.The </a:t>
            </a:r>
            <a:r>
              <a:rPr b="1" lang="en-US" sz="800" spc="-1" strike="noStrike">
                <a:solidFill>
                  <a:srgbClr val="000000"/>
                </a:solidFill>
                <a:latin typeface="Arial"/>
              </a:rPr>
              <a:t>JFace</a:t>
            </a:r>
            <a:r>
              <a:rPr b="0" lang="en-US" sz="800" spc="-1" strike="noStrike">
                <a:solidFill>
                  <a:srgbClr val="000000"/>
                </a:solidFill>
                <a:latin typeface="Arial"/>
              </a:rPr>
              <a:t> UI framework provides higher-level application constructs for supporting dialogs, wizards, actions, user preferences, and widget manag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eam plug-ins allow other plug-ins to define and register implementations for team programming, repository access, and versioning.  The Eclipse SDK includes a CVS plug-in that uses the team support to provide CVS client support in the SD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bug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bug plug-ins allow other plug-ins to implement language specific program launchers and debugg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lp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Help plug-in implements a platform optimized help web server and document integration facility.  It defines extension points that plug-ins can use to contribute help or other plug-in documentation as browsable books.  The documentation web server includes special facilities to allow plug-ins to reference files by using logical, plug-in based URLs instead of file system UR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va Development Tooling (J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development tooling (JDT) plug-ins extend the platform workbench by providing specialized features for editing, viewing, compiling, debugging, and runn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DT is installed as a set of plug-ins that are included in the SDK.  The Java Development User Guide describes how to use the Java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in Development Environment (P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supplies tools that automate the creation, manipulation, debugging, and deploying of plug-ins.  The PDE is installed as a set of plug-ins that are included in the SD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 run-time workbench instance will represent a collection of features provided by plug-ins from two different places (your current workspace and the original host installation), PDE recognizes these plug-ins as two different "spec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plug-ins</a:t>
            </a:r>
            <a:r>
              <a:rPr b="0" lang="en-US" sz="1000" spc="-1" strike="noStrike">
                <a:solidFill>
                  <a:srgbClr val="000000"/>
                </a:solidFill>
                <a:latin typeface="Arial"/>
              </a:rPr>
              <a:t> are plug-ins that arrived with the basic platform installation and are simply referenced from their original location without modification. You can reference them, browse them, view their source and debug them, but they are considered read-on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space plug-ins</a:t>
            </a:r>
            <a:r>
              <a:rPr b="0" lang="en-US" sz="1000" spc="-1" strike="noStrike">
                <a:solidFill>
                  <a:srgbClr val="000000"/>
                </a:solidFill>
                <a:latin typeface="Arial"/>
              </a:rPr>
              <a:t> are those plug-ins under development in your host workbench.  They are under your control and can be added, deleted and modified in any way (the exception are binary plug-ins that will  be described later in the gu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ifferences are fairly transparent to PDE users, but should be understoo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43650-F703-4B09-9097-2BD3FB948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D4D15-E27B-449E-815E-5B6FF1AA2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F5413-24F9-4617-9F99-6C8ABA3C9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9F16-D0A4-49EB-8A48-F46C11523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F298A-5324-4EE2-B107-E4988423E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87A3F-A682-40AE-94C0-835A406DB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DE7D7-EF79-4F42-80E3-4B7ED4AA8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61FE6-952E-4115-AE51-1B2F7DF18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2E700-C463-4853-9151-9A954617D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0CF9-4182-4C26-9C2D-5C01AE482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E715A-C50B-4667-B2A0-8C50BBC8F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ED337-1147-453E-8187-8E9D9E93B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4346-EDF0-427A-9F48-243B40533F07}"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453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04B7-4D70-4A32-B28E-F33B46C1B50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Architecture</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implement behavior defined through extension point API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exte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d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of other 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also declare an extension point and can provide an extension to 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developed in Java programming langu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4705200" y="2039760"/>
            <a:ext cx="4249800" cy="3311640"/>
          </a:xfrm>
          <a:prstGeom prst="rect">
            <a:avLst/>
          </a:prstGeom>
          <a:ln w="0">
            <a:noFill/>
          </a:ln>
        </p:spPr>
      </p:pic>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Makes Up a Plug-in?</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consists of:</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R file</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chive that contains plug-in code</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xml</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s extension point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ut.html</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xtual description of the plug-in</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propertie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in propertie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A-INF\manifest.mf</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s the plug-i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scribing Plug-in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tension to the platform has to be registered somewher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lug-in has a manifest file that describe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of the plug-in code</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s added by the plug-in</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ifest file is </a:t>
            </a:r>
            <a:r>
              <a:rPr b="0" lang="en-US" sz="2800" spc="-1" strike="noStrike">
                <a:solidFill>
                  <a:srgbClr val="000000"/>
                </a:solidFill>
                <a:latin typeface="Book Antiqua"/>
              </a:rPr>
              <a:t>META-INF\MANIFEST.MF</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edited with Eclipse tools</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describes:</a:t>
            </a:r>
            <a:endParaRPr b="0" lang="en-US" sz="24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id, and version of the plug-in</a:t>
            </a:r>
            <a:endParaRPr b="0" lang="en-US" sz="20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of other plug-ins required by the plug-in described</a:t>
            </a:r>
            <a:endParaRPr b="0" lang="en-US" sz="20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plug-in code is located</a:t>
            </a:r>
            <a:endParaRPr b="0" lang="en-US" sz="20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file is plugin.xml</a:t>
            </a:r>
            <a:endParaRPr b="0" lang="en-US" sz="28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s extension points</a:t>
            </a:r>
            <a:endParaRPr b="0" lang="en-US" sz="20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Manifest File</a:t>
            </a:r>
            <a:endParaRPr b="0" lang="en-US" sz="3600" spc="-1" strike="noStrike">
              <a:solidFill>
                <a:srgbClr val="1c1c1c"/>
              </a:solidFill>
              <a:latin typeface="Tahoma"/>
            </a:endParaRPr>
          </a:p>
        </p:txBody>
      </p:sp>
      <p:sp>
        <p:nvSpPr>
          <p:cNvPr id="175" name="PlaceHolder 2"/>
          <p:cNvSpPr>
            <a:spLocks noGrp="1"/>
          </p:cNvSpPr>
          <p:nvPr>
            <p:ph/>
          </p:nvPr>
        </p:nvSpPr>
        <p:spPr>
          <a:xfrm>
            <a:off x="1547640" y="1484280"/>
            <a:ext cx="6553440" cy="3888000"/>
          </a:xfrm>
          <a:prstGeom prst="rect">
            <a:avLst/>
          </a:prstGeom>
          <a:solidFill>
            <a:srgbClr val="ffffcc">
              <a:alpha val="50000"/>
            </a:srgbClr>
          </a:solidFill>
          <a:ln w="9360">
            <a:solidFill>
              <a:srgbClr val="000000"/>
            </a:solidFill>
            <a:miter/>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nifest-Version: 1.0</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ManifestVersion: 2</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Name: Demo Plug-in</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SymbolicName: Demo; singleton:=true</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Version: 1.0.0</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Activator: demo.DemoPlugin</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undle-Localization: plugin</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quire-Bundle: org.eclipse.ui,</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org.eclipse.core.runtime</a:t>
            </a:r>
            <a:endParaRPr b="0" lang="en-US" sz="24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clipse-AutoStart: tr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plugin.xml File</a:t>
            </a:r>
            <a:endParaRPr b="0" lang="en-US" sz="3600" spc="-1" strike="noStrike">
              <a:solidFill>
                <a:srgbClr val="1c1c1c"/>
              </a:solidFill>
              <a:latin typeface="Tahoma"/>
            </a:endParaRPr>
          </a:p>
        </p:txBody>
      </p:sp>
      <p:sp>
        <p:nvSpPr>
          <p:cNvPr id="177" name="PlaceHolder 2"/>
          <p:cNvSpPr>
            <a:spLocks noGrp="1"/>
          </p:cNvSpPr>
          <p:nvPr>
            <p:ph/>
          </p:nvPr>
        </p:nvSpPr>
        <p:spPr>
          <a:xfrm>
            <a:off x="468000" y="1268280"/>
            <a:ext cx="8351640" cy="4824720"/>
          </a:xfrm>
          <a:prstGeom prst="rect">
            <a:avLst/>
          </a:prstGeom>
          <a:solidFill>
            <a:srgbClr val="ffffcc">
              <a:alpha val="50000"/>
            </a:srgbClr>
          </a:solidFill>
          <a:ln w="9360">
            <a:solidFill>
              <a:srgbClr val="000000"/>
            </a:solidFill>
            <a:miter/>
          </a:ln>
        </p:spPr>
        <p:txBody>
          <a:bodyPr lIns="90000" rIns="90000" tIns="46800" bIns="46800" anchor="t">
            <a:normAutofit fontScale="98000"/>
          </a:bodyPr>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eclipse version="3.0"?&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org.eclipse.ui.actionSets"&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Sample Action Se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sible="true"</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Demo.actionSet"&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Sample &amp;amp;Menu"</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sampleMenu"&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sampleGroup"&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parator&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amp;amp;Sample Action"</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con="icons/sample.gif"</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lass="demo.actions.SampleAction"</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oltip="Hello, Eclipse world"</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nubarPath="sampleMenu/sampleGroup"</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olbarPath="sampleGroup"</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demo.actions.SampleAction"&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a:t>
            </a:r>
            <a:endParaRPr b="0" lang="en-US" sz="1400" spc="-1" strike="noStrike">
              <a:solidFill>
                <a:srgbClr val="000000"/>
              </a:solidFill>
              <a:latin typeface="Tahoma"/>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ing Plug-in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packaged as Java Archives – JAR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chives are named using naming convention:</a:t>
            </a:r>
            <a:endParaRPr b="0" lang="en-US" sz="32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t;id&gt;_&lt;version&gt;.ja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id&gt; is identifier</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version&gt; is full version from the manifest fil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org.eclipse.demo.plugin.simple_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ublishing Plug-ins</a:t>
            </a:r>
            <a:endParaRPr b="0" lang="en-US" sz="3600" spc="-1" strike="noStrike">
              <a:solidFill>
                <a:srgbClr val="1c1c1c"/>
              </a:solidFill>
              <a:latin typeface="Tahoma"/>
            </a:endParaRPr>
          </a:p>
        </p:txBody>
      </p:sp>
      <p:sp>
        <p:nvSpPr>
          <p:cNvPr id="181" name="PlaceHolder 2"/>
          <p:cNvSpPr>
            <a:spLocks noGrp="1"/>
          </p:cNvSpPr>
          <p:nvPr>
            <p:ph/>
          </p:nvPr>
        </p:nvSpPr>
        <p:spPr>
          <a:xfrm>
            <a:off x="533160" y="1052640"/>
            <a:ext cx="84214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preparing plug-in for deployment on a specific platform</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al publishing makes use of Ant script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a open source build tool, commonly used in building processes with Java cod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scripts are Java based (platform independent) with XML configuration</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supported in Eclips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matic publishing is available by using Eclipse wizard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ields from using Ant scripts </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zards allow publishing in a single zip file</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zip file contains multiple plug-ins</a:t>
            </a: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s</a:t>
            </a:r>
            <a:endParaRPr b="0" lang="en-US" sz="3600" spc="-1" strike="noStrike">
              <a:solidFill>
                <a:srgbClr val="1c1c1c"/>
              </a:solidFill>
              <a:latin typeface="Tahoma"/>
            </a:endParaRPr>
          </a:p>
        </p:txBody>
      </p:sp>
      <p:sp>
        <p:nvSpPr>
          <p:cNvPr id="183"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s are installed under </a:t>
            </a:r>
            <a:r>
              <a:rPr b="1" lang="en-US" sz="2800" spc="-1" strike="noStrike">
                <a:solidFill>
                  <a:srgbClr val="000000"/>
                </a:solidFill>
                <a:latin typeface="Courier New"/>
              </a:rPr>
              <a:t>\plugins\</a:t>
            </a:r>
            <a:r>
              <a:rPr b="0" lang="en-US" sz="2800" spc="-1" strike="noStrike">
                <a:solidFill>
                  <a:srgbClr val="000000"/>
                </a:solidFill>
                <a:latin typeface="Tahoma"/>
              </a:rPr>
              <a:t> directory off the Eclipse installation directory, e.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eclipse\plugins</a:t>
            </a:r>
            <a:endParaRPr b="0" lang="en-US" sz="2400" spc="-1" strike="noStrike">
              <a:solidFill>
                <a:srgbClr val="000000"/>
              </a:solidFill>
              <a:latin typeface="Tahoma"/>
            </a:endParaRPr>
          </a:p>
        </p:txBody>
      </p:sp>
      <p:pic>
        <p:nvPicPr>
          <p:cNvPr id="184" name="" descr=""/>
          <p:cNvPicPr/>
          <p:nvPr/>
        </p:nvPicPr>
        <p:blipFill>
          <a:blip r:embed="rId1"/>
          <a:stretch/>
        </p:blipFill>
        <p:spPr>
          <a:xfrm>
            <a:off x="4705200" y="1747800"/>
            <a:ext cx="4249800" cy="389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Fragments</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extending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n additional functionality to exist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l for providing add-on functionality to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d in separate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agment content is treated as it was original plug-in archi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runtime platform detects fragments and merges their content with original plug-i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in the </a:t>
            </a:r>
            <a:r>
              <a:rPr b="0" lang="en-US" sz="2800" spc="-1" strike="noStrike">
                <a:solidFill>
                  <a:srgbClr val="000000"/>
                </a:solidFill>
                <a:latin typeface="Book Antiqua"/>
              </a:rPr>
              <a:t>fragment.xml</a:t>
            </a:r>
            <a:r>
              <a:rPr b="0" lang="en-US" sz="2800" spc="-1" strike="noStrike">
                <a:solidFill>
                  <a:srgbClr val="000000"/>
                </a:solidFill>
                <a:latin typeface="Tahoma"/>
              </a:rPr>
              <a:t>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plug-in manifest fi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archive can contain plug-ins or fragm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PI</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t to be used by plug-in develop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are documented and have specif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contain specification ab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y are supposed to do</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hey are intended to be us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lipse platform code is separated in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PI element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internal platform implement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Eclipse API</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PI can be used by doing one of the following:</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ntiat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ublic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commonly used</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rotected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sible from API subclasse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riding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for some method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Implementing platform API interfac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ccessing Fields in API classes and interface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ly final, read-only fiel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04920" y="1218960"/>
            <a:ext cx="469584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clipse feature is a collection of plug-in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a:t>
            </a:r>
            <a:r>
              <a:rPr b="0" lang="en-US" sz="2800" spc="-1" strike="noStrike">
                <a:solidFill>
                  <a:srgbClr val="000000"/>
                </a:solidFill>
                <a:latin typeface="Arial"/>
                <a:ea typeface="Arial"/>
              </a:rPr>
              <a:t>smallest unit of separately downloadable and installable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w notion in Eclipse since version 2.0</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places notion of “component” in Eclipse 1.0 </a:t>
            </a:r>
            <a:endParaRPr b="0" lang="en-US" sz="24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2"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eatures</a:t>
            </a:r>
            <a:endParaRPr b="0" lang="en-US" sz="3600" spc="-1" strike="noStrike">
              <a:solidFill>
                <a:srgbClr val="1c1c1c"/>
              </a:solidFill>
              <a:latin typeface="Tahoma"/>
            </a:endParaRPr>
          </a:p>
        </p:txBody>
      </p:sp>
      <p:grpSp>
        <p:nvGrpSpPr>
          <p:cNvPr id="193" name=""/>
          <p:cNvGrpSpPr/>
          <p:nvPr/>
        </p:nvGrpSpPr>
        <p:grpSpPr>
          <a:xfrm>
            <a:off x="5334120" y="1371600"/>
            <a:ext cx="3504600" cy="3885840"/>
            <a:chOff x="5334120" y="1371600"/>
            <a:chExt cx="3504600" cy="3885840"/>
          </a:xfrm>
        </p:grpSpPr>
        <p:sp>
          <p:nvSpPr>
            <p:cNvPr id="194" name=""/>
            <p:cNvSpPr/>
            <p:nvPr/>
          </p:nvSpPr>
          <p:spPr>
            <a:xfrm>
              <a:off x="5334120" y="1371600"/>
              <a:ext cx="3504600" cy="3885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5684400" y="374652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3</a:t>
              </a:r>
              <a:endParaRPr b="0" lang="en-US" sz="2000" spc="-1" strike="noStrike">
                <a:solidFill>
                  <a:srgbClr val="000000"/>
                </a:solidFill>
                <a:latin typeface="Arial"/>
              </a:endParaRPr>
            </a:p>
          </p:txBody>
        </p:sp>
        <p:sp>
          <p:nvSpPr>
            <p:cNvPr id="196" name=""/>
            <p:cNvSpPr/>
            <p:nvPr/>
          </p:nvSpPr>
          <p:spPr>
            <a:xfrm>
              <a:off x="7174080" y="374652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4</a:t>
              </a:r>
              <a:endParaRPr b="0" lang="en-US" sz="2000" spc="-1" strike="noStrike">
                <a:solidFill>
                  <a:srgbClr val="000000"/>
                </a:solidFill>
                <a:latin typeface="Arial"/>
              </a:endParaRPr>
            </a:p>
          </p:txBody>
        </p:sp>
        <p:sp>
          <p:nvSpPr>
            <p:cNvPr id="197" name=""/>
            <p:cNvSpPr/>
            <p:nvPr/>
          </p:nvSpPr>
          <p:spPr>
            <a:xfrm>
              <a:off x="5684400" y="223488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1</a:t>
              </a:r>
              <a:endParaRPr b="0" lang="en-US" sz="2000" spc="-1" strike="noStrike">
                <a:solidFill>
                  <a:srgbClr val="000000"/>
                </a:solidFill>
                <a:latin typeface="Arial"/>
              </a:endParaRPr>
            </a:p>
          </p:txBody>
        </p:sp>
        <p:sp>
          <p:nvSpPr>
            <p:cNvPr id="198" name=""/>
            <p:cNvSpPr/>
            <p:nvPr/>
          </p:nvSpPr>
          <p:spPr>
            <a:xfrm>
              <a:off x="7174080" y="223488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2</a:t>
              </a:r>
              <a:endParaRPr b="0" lang="en-US" sz="2000" spc="-1" strike="noStrike">
                <a:solidFill>
                  <a:srgbClr val="000000"/>
                </a:solidFill>
                <a:latin typeface="Arial"/>
              </a:endParaRPr>
            </a:p>
          </p:txBody>
        </p:sp>
        <p:sp>
          <p:nvSpPr>
            <p:cNvPr id="199" name=""/>
            <p:cNvSpPr/>
            <p:nvPr/>
          </p:nvSpPr>
          <p:spPr>
            <a:xfrm>
              <a:off x="5379840" y="1479600"/>
              <a:ext cx="122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atur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e Manager</a:t>
            </a:r>
            <a:endParaRPr b="0" lang="en-US" sz="3600" spc="-1" strike="noStrike">
              <a:solidFill>
                <a:srgbClr val="1c1c1c"/>
              </a:solidFill>
              <a:latin typeface="Tahoma"/>
            </a:endParaRPr>
          </a:p>
        </p:txBody>
      </p:sp>
      <p:sp>
        <p:nvSpPr>
          <p:cNvPr id="20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with features and plug-ins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ver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load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lling</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by modular nature of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s it easy to install additional features and plug-ins, and to update existing on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ing or updating features and plug-ins requires adding files to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eting files is never required as different version can co-exist in Eclip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ools Integration Framework</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the framework for integrating different too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ndors provide the too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the integr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multiple levels for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vendor must follow the rules for allow integration at the certain leve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users point of view it is all one tool</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seamless integration, users don’t know when they’re using different t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vocation Integration</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unches tools in external proc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integration of existing tools that are platform depende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 use Eclipse facilities such as resource management and project mode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not run within the Workbench and use other tools within Eclips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run in separate window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uld be used by developers as a central point for navigating and manipulating resour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ata Integration</a:t>
            </a:r>
            <a:endParaRPr b="0" lang="en-US" sz="3600" spc="-1" strike="noStrike">
              <a:solidFill>
                <a:srgbClr val="1c1c1c"/>
              </a:solidFill>
              <a:latin typeface="Tahoma"/>
            </a:endParaRPr>
          </a:p>
        </p:txBody>
      </p:sp>
      <p:sp>
        <p:nvSpPr>
          <p:cNvPr id="20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tools to share the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throug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method, specifies how application can access data from other applicati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change protocol, specifies the form of dat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ransformation, used for transforming data in more appropriate forma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data should be stored in a standard format to support data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ML for exampl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p to tool vendor to provide the form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PI Integration</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data access through tool specific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olates data from direct access such as in data integration</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vendor specifies Java client API for accessing data</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 Java tools must also have Java API, which is possible to do through Java Native Interface (JNI)</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motes behavioral reuse by reusing client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promotes reuse of data st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I Integration</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ools to integrate at the UI leve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looks like the tools are all part of the same appl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by a tool specifying with which tools to integrate at the run ti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I for the tool must be implemented using Eclipse UI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Workbench is done through extension poi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Integrations</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listening, by registering interest in other tools ev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ion management is an examp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provides selection provid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listens for selection ev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ion listeners are notified by the Workbench of any change in the se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can modify its UI based on the notification recei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5"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API</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Framework</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6"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8" name="PlaceHolder 2"/>
          <p:cNvSpPr>
            <a:spLocks noGrp="1"/>
          </p:cNvSpPr>
          <p:nvPr>
            <p:ph/>
          </p:nvPr>
        </p:nvSpPr>
        <p:spPr>
          <a:xfrm>
            <a:off x="684000" y="4835160"/>
            <a:ext cx="8135640" cy="60948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 Eclipse Architecture (Exploring the Plug-ins Directory)</a:t>
            </a:r>
            <a:endParaRPr b="0" lang="en-US" sz="2400" spc="-1" strike="noStrike">
              <a:solidFill>
                <a:srgbClr val="000000"/>
              </a:solidFill>
              <a:latin typeface="Tahoma"/>
            </a:endParaRPr>
          </a:p>
        </p:txBody>
      </p:sp>
      <p:pic>
        <p:nvPicPr>
          <p:cNvPr id="21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asic 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latform runtim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sion poi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clipse API</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tegration Frame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le, structured arou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rchitecture allow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used within the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further extend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between tools and the platform</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need to wait for new product releases for the integration</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320" y="1371600"/>
            <a:ext cx="7543800" cy="47242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5" name=""/>
          <p:cNvSpPr/>
          <p:nvPr/>
        </p:nvSpPr>
        <p:spPr>
          <a:xfrm>
            <a:off x="243828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37204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17" name=""/>
          <p:cNvSpPr/>
          <p:nvPr/>
        </p:nvSpPr>
        <p:spPr>
          <a:xfrm>
            <a:off x="243828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235872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19" name=""/>
          <p:cNvSpPr/>
          <p:nvPr/>
        </p:nvSpPr>
        <p:spPr>
          <a:xfrm>
            <a:off x="793044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0" name=""/>
          <p:cNvGrpSpPr/>
          <p:nvPr/>
        </p:nvGrpSpPr>
        <p:grpSpPr>
          <a:xfrm>
            <a:off x="6934320" y="1600200"/>
            <a:ext cx="2057400" cy="762120"/>
            <a:chOff x="6934320" y="1600200"/>
            <a:chExt cx="2057400" cy="762120"/>
          </a:xfrm>
        </p:grpSpPr>
        <p:sp>
          <p:nvSpPr>
            <p:cNvPr id="121" name=""/>
            <p:cNvSpPr/>
            <p:nvPr/>
          </p:nvSpPr>
          <p:spPr>
            <a:xfrm>
              <a:off x="792504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2" name=""/>
            <p:cNvSpPr/>
            <p:nvPr/>
          </p:nvSpPr>
          <p:spPr>
            <a:xfrm>
              <a:off x="708696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31556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3432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693432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6934320" y="2514600"/>
            <a:ext cx="2057400" cy="762120"/>
            <a:chOff x="6934320" y="2514600"/>
            <a:chExt cx="2057400" cy="762120"/>
          </a:xfrm>
        </p:grpSpPr>
        <p:sp>
          <p:nvSpPr>
            <p:cNvPr id="127" name=""/>
            <p:cNvSpPr/>
            <p:nvPr/>
          </p:nvSpPr>
          <p:spPr>
            <a:xfrm>
              <a:off x="792504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8" name=""/>
            <p:cNvSpPr/>
            <p:nvPr/>
          </p:nvSpPr>
          <p:spPr>
            <a:xfrm>
              <a:off x="708696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731556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693432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693432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
          <p:cNvGrpSpPr/>
          <p:nvPr/>
        </p:nvGrpSpPr>
        <p:grpSpPr>
          <a:xfrm>
            <a:off x="6934320" y="4495680"/>
            <a:ext cx="2057400" cy="762120"/>
            <a:chOff x="6934320" y="4495680"/>
            <a:chExt cx="2057400" cy="762120"/>
          </a:xfrm>
        </p:grpSpPr>
        <p:sp>
          <p:nvSpPr>
            <p:cNvPr id="133" name=""/>
            <p:cNvSpPr/>
            <p:nvPr/>
          </p:nvSpPr>
          <p:spPr>
            <a:xfrm>
              <a:off x="792504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4" name=""/>
            <p:cNvSpPr/>
            <p:nvPr/>
          </p:nvSpPr>
          <p:spPr>
            <a:xfrm>
              <a:off x="708696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731556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693432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693432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8" name=""/>
          <p:cNvSpPr/>
          <p:nvPr/>
        </p:nvSpPr>
        <p:spPr>
          <a:xfrm>
            <a:off x="2666880" y="22096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2666880" y="38098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262764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41" name=""/>
          <p:cNvSpPr/>
          <p:nvPr/>
        </p:nvSpPr>
        <p:spPr>
          <a:xfrm>
            <a:off x="263376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42" name=""/>
          <p:cNvSpPr/>
          <p:nvPr/>
        </p:nvSpPr>
        <p:spPr>
          <a:xfrm>
            <a:off x="533412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2260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44" name=""/>
          <p:cNvSpPr/>
          <p:nvPr/>
        </p:nvSpPr>
        <p:spPr>
          <a:xfrm>
            <a:off x="533412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31648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
        <p:nvSpPr>
          <p:cNvPr id="146" name=""/>
          <p:cNvSpPr/>
          <p:nvPr/>
        </p:nvSpPr>
        <p:spPr>
          <a:xfrm>
            <a:off x="3657600" y="2819520"/>
            <a:ext cx="114300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Face</a:t>
            </a:r>
            <a:endParaRPr b="0" lang="en-US" sz="2000" spc="-1" strike="noStrike">
              <a:solidFill>
                <a:srgbClr val="000000"/>
              </a:solidFill>
              <a:latin typeface="Arial"/>
            </a:endParaRPr>
          </a:p>
        </p:txBody>
      </p:sp>
      <p:sp>
        <p:nvSpPr>
          <p:cNvPr id="147" name=""/>
          <p:cNvSpPr/>
          <p:nvPr/>
        </p:nvSpPr>
        <p:spPr>
          <a:xfrm>
            <a:off x="3657600" y="3200400"/>
            <a:ext cx="114300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T</a:t>
            </a:r>
            <a:endParaRPr b="0" lang="en-US" sz="2000" spc="-1" strike="noStrike">
              <a:solidFill>
                <a:srgbClr val="000000"/>
              </a:solidFill>
              <a:latin typeface="Arial"/>
            </a:endParaRPr>
          </a:p>
        </p:txBody>
      </p:sp>
      <p:grpSp>
        <p:nvGrpSpPr>
          <p:cNvPr id="148" name=""/>
          <p:cNvGrpSpPr/>
          <p:nvPr/>
        </p:nvGrpSpPr>
        <p:grpSpPr>
          <a:xfrm>
            <a:off x="152280" y="1981080"/>
            <a:ext cx="2438280" cy="1219320"/>
            <a:chOff x="152280" y="1981080"/>
            <a:chExt cx="2438280" cy="1219320"/>
          </a:xfrm>
        </p:grpSpPr>
        <p:sp>
          <p:nvSpPr>
            <p:cNvPr id="149" name=""/>
            <p:cNvSpPr/>
            <p:nvPr/>
          </p:nvSpPr>
          <p:spPr>
            <a:xfrm>
              <a:off x="152280" y="198108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E)</a:t>
              </a:r>
              <a:endParaRPr b="0" lang="en-US" sz="2000" spc="-1" strike="noStrike">
                <a:solidFill>
                  <a:srgbClr val="000000"/>
                </a:solidFill>
                <a:latin typeface="Arial"/>
              </a:endParaRPr>
            </a:p>
          </p:txBody>
        </p:sp>
        <p:sp>
          <p:nvSpPr>
            <p:cNvPr id="150" name=""/>
            <p:cNvSpPr/>
            <p:nvPr/>
          </p:nvSpPr>
          <p:spPr>
            <a:xfrm rot="10794600">
              <a:off x="2209320" y="25142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2438280" y="25909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438280" y="27432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676160" y="26668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152280" y="3429000"/>
            <a:ext cx="2438280" cy="1219320"/>
            <a:chOff x="152280" y="3429000"/>
            <a:chExt cx="2438280" cy="1219320"/>
          </a:xfrm>
        </p:grpSpPr>
        <p:sp>
          <p:nvSpPr>
            <p:cNvPr id="155" name=""/>
            <p:cNvSpPr/>
            <p:nvPr/>
          </p:nvSpPr>
          <p:spPr>
            <a:xfrm>
              <a:off x="152280" y="342900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DT)</a:t>
              </a:r>
              <a:endParaRPr b="0" lang="en-US" sz="2000" spc="-1" strike="noStrike">
                <a:solidFill>
                  <a:srgbClr val="000000"/>
                </a:solidFill>
                <a:latin typeface="Arial"/>
              </a:endParaRPr>
            </a:p>
          </p:txBody>
        </p:sp>
        <p:sp>
          <p:nvSpPr>
            <p:cNvPr id="156" name=""/>
            <p:cNvSpPr/>
            <p:nvPr/>
          </p:nvSpPr>
          <p:spPr>
            <a:xfrm rot="10794600">
              <a:off x="2209320" y="38858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438280" y="39625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2438280" y="41148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1676160" y="40384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0" name=""/>
          <p:cNvSpPr/>
          <p:nvPr/>
        </p:nvSpPr>
        <p:spPr>
          <a:xfrm>
            <a:off x="119160" y="54864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SD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atform Runtime</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clipse, everything is plug-in except the Platform Runtime</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small kernel that represents base of the platform</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other subsystems build up on the Platform Runtime following the rules of plug-in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plug-ins themselve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platform include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Managemen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a:t>
            </a:r>
            <a:endParaRPr b="0" lang="en-US" sz="3600" spc="-1" strike="noStrike">
              <a:solidFill>
                <a:srgbClr val="1c1c1c"/>
              </a:solidFill>
              <a:latin typeface="Tahoma"/>
            </a:endParaRPr>
          </a:p>
        </p:txBody>
      </p:sp>
      <p:sp>
        <p:nvSpPr>
          <p:cNvPr id="164" name="PlaceHolder 2"/>
          <p:cNvSpPr>
            <a:spLocks noGrp="1"/>
          </p:cNvSpPr>
          <p:nvPr>
            <p:ph/>
          </p:nvPr>
        </p:nvSpPr>
        <p:spPr>
          <a:xfrm>
            <a:off x="533520" y="1066320"/>
            <a:ext cx="8229600" cy="48006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additional functionality that could be integrated with the platform</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tools extend the platform to  bring specific functionality</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Development Tooling (JDT) and Plug-in Development Environment (PDE) are external tools integrated with the platform</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levels of extending in Eclips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core platform</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existing extensions</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may have corresponding API interfac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s what should be provided in the exten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tools that provide additional functionality to the platform</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ly integrated with the platform</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extension point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lug-in defines its own set of extension points</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specialized functionality</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key functionality that does not already exist in the platform</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their own set of API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further extension of their functional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8:12Z</dcterms:modified>
  <cp:revision>206</cp:revision>
  <dc:subject/>
  <dc:title>PowerPoint Presentation</dc:title>
</cp:coreProperties>
</file>