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964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6692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55640" indent="-43164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55640" indent="-431640">
              <a:lnSpc>
                <a:spcPct val="93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55640" indent="-431640">
              <a:lnSpc>
                <a:spcPct val="93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EILF/SMIL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99284c"/>
                </a:solidFill>
                <a:latin typeface="Arial"/>
              </a:rPr>
              <a:t>Eccenca e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Long-term Goal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ate the intended goa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ustomer Wishe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escribe customer needs and wish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xplain the requiremen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Fulfilling </a:t>
            </a:r>
            <a:br>
              <a:rPr sz="4000"/>
            </a:b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ustomer Need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escribe the main attributes of the produc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ink the product attributes to customer need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ost Analysi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dicate the financial advantages for the custom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mpare quality and price with those of the competi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Strengths and Advantage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ummarize the special features and advantages of the product being introduc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Next Steps of Action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xplain the steps that now need to be take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van Churkin</dc:creator>
  <dc:description>General introduction of a new product taking customer wishes into account</dc:description>
  <dc:language>en-US</dc:language>
  <cp:lastModifiedBy>Churkin</cp:lastModifiedBy>
  <dcterms:modified xsi:type="dcterms:W3CDTF">2008-06-24T09:33:18Z</dcterms:modified>
  <cp:revision>1</cp:revision>
  <dc:subject/>
  <dc:title>Introducing a New Product</dc:title>
</cp:coreProperties>
</file>