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9046-AA7C-46DF-8A5A-BF0059A1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 show up in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ed global and local-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AspectJ Browser for mining crosscu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synchronized with multiple sourc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structur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ctrl&gt;x &lt;ctrl&gt;j pop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DEE speedbar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structure in document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time invariant caught by after returning advice was navigated to from the console’s stack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structure as hyperlinks in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J++ 6.0 support (discontinued 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 UML integration mock-up (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ct Visualizer showing a package-granularity crosscutting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ed lines represent particular aspects affecting the highlighted sourc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ctJ Browser global structure view (top le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eclaration structure view with filtering (bottom le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nnotation structure (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previous but no inline annotat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and referential structure navigable from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configuration selection UI and compile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build configuration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F6D-2A8C-47F5-963D-5F2D9884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C6C-15E9-40DD-9778-965A5552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275-60AC-4170-BE1F-E67CA638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36B-2CE4-45C3-8CFE-69A514C1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7DA-EE38-4EF4-8A85-998FB4E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7DA-C247-4DB4-AC31-ACC63EBC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0B4-756C-4086-89CC-1F2C9A3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2D4-76B6-4C36-B19B-17EE807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8C0-27F2-44DD-AAD4-7A19E7FE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49E-9CDF-4CCB-8E2D-B56F8DB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9E4-EBB5-45D6-88FC-9B8C758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202-E4D0-4A88-95EE-5FE951C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005-B62B-404C-B210-F84E4B17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DT Eclipse Suppo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0.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J Brows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.0.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DE for Emacs/JD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.0.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Do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.0.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tools &amp; prototy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DE for JBuil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.0.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65160"/>
            <a:ext cx="84582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86868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JDE for NetBeans/Sun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.0.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6:17:16Z</dcterms:created>
  <dc:creator>Mik Kersten</dc:creator>
  <dc:description/>
  <dc:language>en-US</dc:language>
  <cp:lastModifiedBy>Mik Kersten</cp:lastModifiedBy>
  <dcterms:modified xsi:type="dcterms:W3CDTF">2002-09-13T02:24:25Z</dcterms:modified>
  <cp:revision>9</cp:revision>
  <dc:subject/>
  <dc:title>Slide 1</dc:title>
</cp:coreProperties>
</file>