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14E28F-7568-4CE6-935E-EDD1735734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FE4C55-D531-46B8-BF43-CA608F99F4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are the usual benefits of modularity, for a kind of concern that previously could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ed in a modular way -- its critical to make it clear that its about modularity (and old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oint) for a new kind of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all inter-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time structure can leverage the joinpoint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resource structure is contains cross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refactoring is problematic because it doesn’t understand this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transactions and security cross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C18749-7A50-45BC-B859-9285270AC9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896878-5855-4EBB-A246-E3D628F2BC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086ACB-7B8C-40D7-8B30-5A0486A1B1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95389B-96C9-4BB7-9B40-768954624F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EA4B-4740-41EF-AF2F-10C45CD4A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BAB8-AFCD-428D-9A79-F8F353EF3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D7AD-3FC0-4B24-A459-B0744EC01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5770-888F-4A08-A33F-D258AF88B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BD108-76E0-4578-922E-1594915FD8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BA881-430A-463E-94A0-85D883F169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92E53-2BFB-4F1E-AA06-F0271D2614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DDEA3-105D-4D61-A71F-FB0DED0A13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744AF-4794-4419-A236-69A8AF6538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773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0AAA5-336B-49D7-8745-1D09358FF7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57000-9B07-4A0F-A499-057DFF63D5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31902-29A6-4874-86C1-2347F6BFC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921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21054-BDAE-4920-915D-05909C1282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6D3CC-773A-4B7F-ABF1-32BCC29438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A2973-BD39-413F-8FBA-824281C800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921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64B2B-63A9-4F85-B1B8-302ECD748B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74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651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29106-7B53-45BE-A9FC-D2BF23C672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1428C-CB31-4554-B632-4EB26845D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DBC2-6B26-491F-AA5D-80F60F2AA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B3DB-F8B4-4C9D-944F-FD2F99E45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773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7E31-3938-4214-8B69-1BB7B4F85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3BB6-6BB9-4B17-9466-B99C61E6B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9B58-345A-4020-83CC-85AFE0089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854B-E2AE-430F-8FBA-D05126790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3C6E-0F8C-4359-A351-83A8C5545C6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1AA3-C97A-44E5-BF80-8FDE80F8D97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23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T: AspectJ™ Development Tools for Eclips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3174840"/>
            <a:ext cx="45720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2B69-8C8B-4699-96C3-44B5ABE1C87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development tools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C471-B9E4-4FBB-978E-1C3C5096A7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ools architecture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25320" y="1577880"/>
          <a:ext cx="8518680" cy="42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577880"/>
                    <a:ext cx="851868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7A30-D51F-480C-8FCD-E050FEEAD7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23C9-8075-4CA1-A611-A0F41B38B2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t development timelin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 part-time developer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ed mid-January 20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lug-in used by ~50 developers in workshop, end of February 20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 public release June 20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layed due to hosting, legal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76BC4-CC45-4DDB-B0B1-404538C6E1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 was eas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ug-in model facilitated AspectJ/AJDT s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pectives, views, and editors made the plug-in unobtrusive to Java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ch OO U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to work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EF494-5C4E-4B1F-A827-017BF0E56C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 was hard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ed persistent model that understands global struct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DT not designed with language extension in min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ine view is replic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spectJ model not extension Java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get worse as we try to support more functionality (refactoring, code assi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A54B-7E47-41E1-9D1F-1169DED3F1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1.1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mental compil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s JDT’s compi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ager pars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tended, persistent mod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ce that’s do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m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vigator and global 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16DE-B926-42C7-B771-0D40B8AA48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7A078-F4E9-4074-B14D-40703E3E8E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 visualizer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4ABC-792C-4842-83F6-D2BEF6F8EA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ian Colyer, IBM UK L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 Kersten, P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y Clement, IBM UK L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ie Waterhouse Park, IBM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ors: Mathew Webster, Rory Slaney, Sian Whiting, Jonathan Davies, Nick Huism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oad the ajdt eclipse plug-in: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http://eclipse.org/ajd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oad the tools and docs at: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http://aspectj.org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more information on AOP: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http://aosd.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s: thursday 12-12:45pm, friday 1-1:45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40A1-2C17-4FF5-8D98-AC2286AE7D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AspectJ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nd out more 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torial tomor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s thursday and fri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ick overview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38D28-F5EE-43B2-B7A5-CEC42B584D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C50A-1514-451D-A7AD-F0C1C31B19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ED2D-42B9-4AA0-9749-D324F4B3FF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st of crosscutting concerns in co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7502-2692-4AEE-8470-448E1408B9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, zoomed 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090E-FE1B-43CE-B435-2D10FF20A5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org.apache.tomcat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, modularized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tomcat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AC892-2385-4C21-8728-8E1385A8A9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tools ro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sent crosscutting struct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 to infer structure from source al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sistently across multipl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ready had JBuilder, NetBeans, Ema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ced constant requests for an Eclipse plug-in after OOPSLA 20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734E-02FF-40DF-AFB0-A83F92D2BC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773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t proj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al is seamless integration with Eclipse/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iler inte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itor suppor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navi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urce creation wiz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configu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43A2-248B-4CE5-AA57-F85762A332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2-11-06T03:55:32Z</dcterms:modified>
  <cp:revision>252</cp:revision>
  <dc:subject/>
  <dc:title>Aspect-Oriented Programming with AspectJ</dc:title>
</cp:coreProperties>
</file>