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9010EC-3C4D-419B-92FD-C9B1681E00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8AC093-14E7-4E59-AB06-70787C62D0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C2463-AE7D-4CC7-B553-299CED0D47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40F2C9-A3DD-49F3-92C2-7F1651DCE0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2798E5-12D0-425C-AA46-1CE7FEEFE3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ED17FE-1568-4783-9C6B-40CEE3E959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2280" y="4457880"/>
            <a:ext cx="5533920" cy="42242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cutting and referential structure navigable from ad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F8CC-883E-433A-8507-F50F7D2C9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0EC4-1104-4D0D-A1CE-858223B4A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78EA-6AF5-4F7A-B302-B4259A0A5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A355-3ADD-4C00-8076-997A349FA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CE563-F32F-4293-98E6-FD30D6BB9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1A2B0-5C92-4DB0-9507-502AB4954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3C16E-AAFF-4548-B90C-26947B6A92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40152-CC24-4BC1-8649-BC16402D1E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D4E8D-6ADD-4267-BE4D-44BD5C66D2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77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D1518-279F-45F2-B0FE-558644A11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D7339-BF62-4B7E-9A49-1D5B4A9E7E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91A3-C8A4-4929-9472-863A603C7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0CBED-07BF-41C4-8A91-603EA8362E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BD846-C538-4502-A98E-312C5E2261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502F3-464D-46E8-B48F-C83BC00AB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F351B-E7CA-49A7-9B1D-C0274A4101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51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79D09-ACEC-494A-B378-2A37E0F13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7586-DBD1-4B31-A7A8-D5B819665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C0D5-ED33-486D-A70B-E196DCA6F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B4E6-5DFA-4CB0-8D6F-7CDFFC775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77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949B-F326-4844-84BD-9DE94D544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82AE-5690-4423-B0A7-31DD2DB0C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E877-1846-43DF-8AF8-4C708A437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940C-6994-4F0F-9BEB-6F68451E6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F62-0301-459E-A48B-088A2443008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143-52C6-4901-9EB4-A4392E9E2E3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1878-7D6B-4A89-B617-AF4EC29A90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, zoomed 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BAFE-4D34-456F-9F52-067B56517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FD8C-CBB3-4CF4-9897-4FC6D1F6F3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5CC1-A2AE-49EA-815C-05F97A7AF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B908-F0E9-4B6E-A0A1-E3C896BD90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3CA2-3F9E-433B-A171-205028501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de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8010-CCFF-406F-B666-06F4328FD2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1ACF-13FF-43EA-A10B-5835B9BDB6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how to get the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23880"/>
            <a:ext cx="83059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the tools and docs at: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http://aspectj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eclipse plug-in: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http://eclipse.org/aj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ools for AOSD: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http://aosd.net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CED3-2557-4366-9C1B-86E26D2F9F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2-11-06T18:53:30Z</dcterms:modified>
  <cp:revision>139</cp:revision>
  <dc:subject/>
  <dc:title>Aspect-Oriented Programming with AspectJ</dc:title>
</cp:coreProperties>
</file>