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5369BA-1A49-406B-B56D-7165F566838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53ECCA-60A3-453A-9320-636017A21A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0C46BF-9E2C-49F2-8F6A-F4F62EA4355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4E4A92-723A-4898-AFA5-0E9ED6003C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CD54A2-C9D8-491C-AB60-FF273B5290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D1B7B0-2431-495F-AA1F-49FDE3C36B9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4C8CB3-9954-4F01-A057-6D7D409476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745FA7-08FA-4923-9F1A-5E365281ADD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762E29-5AD9-478C-9E48-87723DDF86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22DD9A-96FC-49F7-AF1A-0D2AFB3C1B1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8129B5-4AA7-4EC6-A3E6-5653558DF45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EEC99D-C03E-46BB-BF13-1989A8EFF9D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2C5B3F-AB8D-41A8-8E63-ED57FA6D0D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3E5CC1-149D-4AA4-BE69-41ECE42561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4E54F8-B905-42E7-9714-D1EECDB4CC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D3933D-AB9D-48E7-A489-EFF7BAE44AE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4554BE-6552-4B1C-BCD0-7F2D89A2C7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16E30F-99A2-4998-8BA4-E003A3C0E2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04D5-556E-4137-8479-631A9A85C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03C7C-0E87-44E3-B7A4-1491BDFC2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D2541-6983-49EB-ACF4-A174B5476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91DB9-A6BE-40AA-AC7F-D86354474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74783-157B-4961-A939-D8B84CB9B3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993A8-2C05-4E9B-9F50-13ADEBA845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163FB-D09B-4E71-A8A5-90B99A927D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9085C-C8C9-4EAA-A249-F59097FB31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4CE24-969F-4828-91D8-60F581A0F0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33FFA-94C0-495B-B23D-3F332A694F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F77C6-295C-4C46-910D-45856AA06C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8F281-BDF8-4B5B-A1F2-863D793CE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6BFF9-5730-48AA-95E5-F565C2F276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851D6-F482-43D8-B9E6-0FBF17846D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1CD09-C8DF-4763-944F-6BF85A9D0F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4F25F-320D-4570-89A5-5BA6189D4A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7A182-7164-4824-97DB-3F3E2EB571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8BBD6-D0D4-47CE-8AA4-41B06134F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8716-7618-4A50-AF17-043AE3FC8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4ABBF-3B07-4F65-99A7-73CE8E826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260B6-40F6-44DD-9C64-9852B7EA7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C9973-CF13-4B92-B4F1-CB4F85E9C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FBC1-ABB1-4009-B4F4-A1AD87886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8F3C6-6B22-4422-98CC-15E402CDE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E17A-F12D-43A9-ACFC-4B8FBFDA3AC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7CEC-DEDC-42F4-BD9A-C48EA4C8732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A6484-8559-4A54-8921-F5FF561309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62EBC-FD65-41A9-B25C-D9F12AE24F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22D35-1A95-4F3A-BF5A-32C41D5BD0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9C306-B861-4647-9F1D-BFB412D37F2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5D44-41CB-4DD6-94A8-28431A48BD8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32C85-6493-4DC8-825A-DA9E3BDB882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60188-BDEF-4EED-9DF0-29B7CE8F01E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E37AA-A473-4140-B79F-CFCA769866A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7B07-84CA-4B8F-B54A-ED0DA06D4EF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8805A-5CC4-442F-AA0F-58F544A162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9FCCD-CC64-4B05-BD52-26E07731B0C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49647-29CF-436E-8A42-D13D1CFA31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43208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066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57895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47056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55600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06E0F-BBBD-46ED-90F5-6D86E649AE9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51460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D71F0-967A-4D77-8C75-25C87E19D2A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223200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E56B-7FEE-4D34-A9BB-BF63E1AA38A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36809-1FCC-47BF-8379-6FC791E9DF6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DAA93-D92E-480B-8B61-8738E13ADDB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B8A1D-5DB5-4AFE-A7D7-E9686DB2065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4FC51-926E-4BA2-8563-565D2F1E217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C42D8-1FDF-43C6-A2D7-EC50CB4F75B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DCAC5-5D65-44A0-A494-71423D57204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377F0-8DAB-4737-B9E0-D4840D1B4DB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E36AE-D3AA-4B56-9F2F-99CA90130B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C46D-A1EB-40A4-ACCB-2486D5884A0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4D8F-7C31-4117-B245-DC37B0D47D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97223-CF8B-4FF4-9DD9-7E0E81E289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54268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057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057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057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057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C264D-E5B6-4A85-9F9E-F77A477F6D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54268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6280" y="39625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360" y="1981080"/>
            <a:ext cx="254268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231444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58080" y="3276720"/>
            <a:ext cx="292392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DAD6D-4D55-4D09-A529-C5C37BF31A8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A6EBE-E162-4F0D-A5E8-3C50795F01A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7D3C-9159-41DF-8D4B-B1DDFB37716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C86D0-9C61-496A-8D66-1A968B84B0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87292-4783-44A6-A69F-66A153CBCFA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19532-9384-46B6-8F29-012D619195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2808D-724C-4B09-904F-224C1D4CA6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44792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2EA87-6FAD-4351-87DF-040A736B2AE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373212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179532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295280"/>
            <a:ext cx="1166760" cy="2043000"/>
            <a:chOff x="1555920" y="129528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295280"/>
              <a:ext cx="1166760" cy="1012680"/>
              <a:chOff x="1555920" y="129528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2952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5951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325600"/>
              <a:ext cx="1166760" cy="1012680"/>
              <a:chOff x="1555920" y="232560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32560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62548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432080"/>
            <a:ext cx="1166760" cy="1012680"/>
            <a:chOff x="5332320" y="143208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43208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173052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1901880"/>
            <a:ext cx="2644560" cy="837720"/>
            <a:chOff x="2698920" y="190188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190188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10924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159520"/>
            <a:ext cx="3776760" cy="1012680"/>
            <a:chOff x="4071960" y="515952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159520"/>
              <a:ext cx="1165320" cy="1012680"/>
              <a:chOff x="4071960" y="515952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15952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45940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159520"/>
              <a:ext cx="1166760" cy="1012680"/>
              <a:chOff x="6681960" y="515952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15952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45940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159520"/>
              <a:ext cx="1166760" cy="1012680"/>
              <a:chOff x="5376960" y="515952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15952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4579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492280"/>
            <a:ext cx="2514960" cy="2628720"/>
            <a:chOff x="4712760" y="249228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2887560"/>
              <a:ext cx="961920" cy="342720"/>
              <a:chOff x="5445000" y="288756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288756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288756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692520"/>
              <a:ext cx="1305000" cy="342720"/>
              <a:chOff x="5270400" y="369252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69252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69252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408200"/>
              <a:ext cx="1234440" cy="344520"/>
              <a:chOff x="5756400" y="440820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40820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40820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492280"/>
              <a:ext cx="465120" cy="360360"/>
              <a:chOff x="5698800" y="249228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49228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49228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251160"/>
              <a:ext cx="1002960" cy="360360"/>
              <a:chOff x="5440320" y="325116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25116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25116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03200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479412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477036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03200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02732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02588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17476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9DAEA-F6E9-419B-A330-7C4BAFC156B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373212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295280"/>
            <a:ext cx="1166760" cy="2043000"/>
            <a:chOff x="1555920" y="129528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295280"/>
              <a:ext cx="1166760" cy="1012680"/>
              <a:chOff x="1555920" y="129528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2952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5951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325600"/>
              <a:ext cx="1166760" cy="1012680"/>
              <a:chOff x="1555920" y="232560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32560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62548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432080"/>
            <a:ext cx="1166760" cy="1012680"/>
            <a:chOff x="5332320" y="143208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43208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173052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1901880"/>
            <a:ext cx="2644560" cy="837720"/>
            <a:chOff x="2698920" y="190188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190188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10924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159520"/>
            <a:ext cx="3776760" cy="1012680"/>
            <a:chOff x="4071960" y="515952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159520"/>
              <a:ext cx="1165320" cy="1012680"/>
              <a:chOff x="4071960" y="515952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15952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45940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159520"/>
              <a:ext cx="1166760" cy="1012680"/>
              <a:chOff x="6681960" y="515952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15952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45940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159520"/>
              <a:ext cx="1166760" cy="1012680"/>
              <a:chOff x="5376960" y="515952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15952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4579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1827360"/>
            <a:ext cx="1324080" cy="902880"/>
            <a:chOff x="2409840" y="182736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182736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48644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192240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52252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02716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197532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38932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4800600"/>
            <a:ext cx="2754720" cy="470880"/>
            <a:chOff x="4495680" y="480060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480384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48006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480384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00184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490068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499824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489420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492264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489420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492280"/>
            <a:ext cx="2514960" cy="2628720"/>
            <a:chOff x="4712760" y="249228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2887560"/>
              <a:ext cx="961920" cy="342720"/>
              <a:chOff x="5445000" y="288756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288756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288756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692520"/>
              <a:ext cx="1305000" cy="342720"/>
              <a:chOff x="5270400" y="369252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69252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69252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408200"/>
              <a:ext cx="1234440" cy="344520"/>
              <a:chOff x="5756400" y="440820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40820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40820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492280"/>
              <a:ext cx="465120" cy="360360"/>
              <a:chOff x="5698800" y="249228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49228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49228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251160"/>
              <a:ext cx="1002960" cy="360360"/>
              <a:chOff x="5440320" y="325116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25116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25116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03200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479412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477036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03200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02732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02588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6952C-E655-4F36-93C4-01FD5951B5F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1D5F7-7C2C-4518-888A-DCE090F4288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E5CB-6525-4159-838F-A868A2C96C5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AA18C-4800-4746-846C-8E4D08BC5F3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93468-1E3E-4B5F-907E-7DED64265A6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5712F-8E5B-4E7E-BDEB-5A00F044552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31240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 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057400"/>
            <a:ext cx="2286000" cy="281772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, e.g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666880"/>
            <a:ext cx="2286000" cy="281808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. E.g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3DD86-030A-4CF4-AE5B-047D255E61F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15F62-BBF3-42E9-A373-9423CBBADDD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1449A-DCA9-4E9C-A0B3-7EDFEFB66C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290840"/>
            <a:ext cx="2362320" cy="609840"/>
            <a:chOff x="609480" y="429084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29084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29084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290840"/>
            <a:ext cx="914400" cy="66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220DC-9C9B-4BE6-AB30-2C8CAFBBD1C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iler is Open 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DA6A2-C536-4A20-8CE3-0DC7B3E6B05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AD319-4D80-45E1-8924-84E79F787EF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BCDDF-2B7C-4E6E-8B8A-3D57C93C9A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CF530-4220-45A1-B911-A0D337100F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D58F3-9C04-4AC6-8360-ACB4E77C35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B9E17-DD80-422C-BD01-959F5B1557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2-09-24T23:35:43Z</dcterms:modified>
  <cp:revision>5</cp:revision>
  <dc:subject/>
  <dc:title>Aspect-Oriented Programming with AspectJ</dc:title>
</cp:coreProperties>
</file>